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44.xml.rels" ContentType="application/vnd.openxmlformats-package.relationships+xml"/>
  <Override PartName="/ppt/slides/_rels/slide97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53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8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4.xml.rels" ContentType="application/vnd.openxmlformats-package.relationships+xml"/>
  <Override PartName="/ppt/slides/_rels/slide54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3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77.xml.rels" ContentType="application/vnd.openxmlformats-package.relationships+xml"/>
  <Override PartName="/ppt/slides/_rels/slide78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8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27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2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slide9.xml" ContentType="application/vnd.openxmlformats-officedocument.presentationml.slide+xml"/>
  <Override PartName="/ppt/slides/slide59.xml" ContentType="application/vnd.openxmlformats-officedocument.presentationml.slide+xml"/>
  <Override PartName="/ppt/slides/slide84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58.xml" ContentType="application/vnd.openxmlformats-officedocument.presentationml.slide+xml"/>
  <Override PartName="/ppt/slides/slide8.xml" ContentType="application/vnd.openxmlformats-officedocument.presentationml.slide+xml"/>
  <Override PartName="/ppt/slides/slide21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81.xml" ContentType="application/vnd.openxmlformats-officedocument.presentationml.slide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8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83.xml" ContentType="application/vnd.openxmlformats-officedocument.presentationml.slide+xml"/>
  <Override PartName="/ppt/slides/slide128.xml" ContentType="application/vnd.openxmlformats-officedocument.presentationml.slide+xml"/>
  <Override PartName="/ppt/slides/slide33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41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  <Override PartName="/ppt/slides/slide29.xml" ContentType="application/vnd.openxmlformats-officedocument.presentationml.slide+xml"/>
  <Override PartName="/ppt/slides/slide97.xml" ContentType="application/vnd.openxmlformats-officedocument.presentationml.slide+xml"/>
  <Override PartName="/ppt/slides/slide125.xml" ContentType="application/vnd.openxmlformats-officedocument.presentationml.slide+xml"/>
  <Override PartName="/ppt/slides/slide98.xml" ContentType="application/vnd.openxmlformats-officedocument.presentationml.slide+xml"/>
  <Override PartName="/ppt/slides/slide126.xml" ContentType="application/vnd.openxmlformats-officedocument.presentationml.slide+xml"/>
  <Override PartName="/ppt/slides/slide127.xml" ContentType="application/vnd.openxmlformats-officedocument.presentationml.slide+xml"/>
  <Override PartName="/ppt/slides/slide9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8F8C8-EBAF-4D00-9771-6A60C65C7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85840"/>
            <a:ext cx="7786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85800" y="4235400"/>
            <a:ext cx="7786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F6B76-4649-4EEF-A9EE-BE68B85C0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085840"/>
            <a:ext cx="3799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6040" y="2085840"/>
            <a:ext cx="3799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235400"/>
            <a:ext cx="3799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6040" y="4235400"/>
            <a:ext cx="3799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9874A-E4A8-408D-BAEE-1907ABFDF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085840"/>
            <a:ext cx="2507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318480" y="2085840"/>
            <a:ext cx="2507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951520" y="2085840"/>
            <a:ext cx="2507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85800" y="4235400"/>
            <a:ext cx="2507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318480" y="4235400"/>
            <a:ext cx="2507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951520" y="4235400"/>
            <a:ext cx="2507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2E144-DB07-47CE-8435-9BF37162F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605D8-93E5-478D-A5D3-7F55FA113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685800" y="2085840"/>
            <a:ext cx="778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A68CE-65B4-4CC3-8F64-9DD2A2CE9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085840"/>
            <a:ext cx="77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DC48C-8D6F-4579-B1CC-8B7A556C1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085840"/>
            <a:ext cx="3799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6040" y="2085840"/>
            <a:ext cx="3799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4F65A-4740-4F88-B91D-E9DE8FAC4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51302-09A9-4255-8F26-E1640E5D1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685800" y="681120"/>
            <a:ext cx="7786800" cy="543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9C92A-6DCD-446A-B76F-4773FC529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085840"/>
            <a:ext cx="3799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6040" y="2085840"/>
            <a:ext cx="3799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235400"/>
            <a:ext cx="3799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5B411-B0E7-40A9-B781-F6DCA9D58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685800" y="2085840"/>
            <a:ext cx="778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6D4F2-3BE3-42BB-AA11-900DFB1E0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2085840"/>
            <a:ext cx="3799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6040" y="2085840"/>
            <a:ext cx="3799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6040" y="4235400"/>
            <a:ext cx="3799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543B6-4186-4E58-B354-2677BCCF6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085840"/>
            <a:ext cx="3799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6040" y="2085840"/>
            <a:ext cx="3799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235400"/>
            <a:ext cx="7786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BFAAC-AD19-4555-8F09-5FFC47974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085840"/>
            <a:ext cx="7786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85800" y="4235400"/>
            <a:ext cx="7786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F8661-D0BF-4578-8AC5-0F1535531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2085840"/>
            <a:ext cx="3799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6040" y="2085840"/>
            <a:ext cx="3799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85800" y="4235400"/>
            <a:ext cx="3799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6040" y="4235400"/>
            <a:ext cx="3799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A64F9-CE68-45B3-A84F-CF94CD02B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2085840"/>
            <a:ext cx="2507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318480" y="2085840"/>
            <a:ext cx="2507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951520" y="2085840"/>
            <a:ext cx="2507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85800" y="4235400"/>
            <a:ext cx="2507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318480" y="4235400"/>
            <a:ext cx="2507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5951520" y="4235400"/>
            <a:ext cx="2507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4CC4E-70A6-4492-9A49-B96BE06BE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2085840"/>
            <a:ext cx="77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47C9E-E11E-4861-A78F-C47F7A20A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2085840"/>
            <a:ext cx="3799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6040" y="2085840"/>
            <a:ext cx="3799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87069-1B05-4B5A-9682-C4BF0E97C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1AAD5-6C66-4C22-89E6-6BD645F48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685800" y="681120"/>
            <a:ext cx="7786800" cy="543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E8EA0-513C-4FF3-ADC5-EDEA2FC2A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085840"/>
            <a:ext cx="3799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6040" y="2085840"/>
            <a:ext cx="3799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85800" y="4235400"/>
            <a:ext cx="3799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33284-F750-4ABD-86F7-B389350C0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085840"/>
            <a:ext cx="3799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6040" y="2085840"/>
            <a:ext cx="3799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6040" y="4235400"/>
            <a:ext cx="3799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11678-3C67-4071-9D99-A49C11888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085840"/>
            <a:ext cx="3799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2085840"/>
            <a:ext cx="3799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235400"/>
            <a:ext cx="7786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F48D3-BB0C-4318-AA9B-2E4704233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31400" cy="6845400"/>
            <a:chOff x="0" y="0"/>
            <a:chExt cx="9131400" cy="68454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31400" cy="6845400"/>
              <a:chOff x="0" y="0"/>
              <a:chExt cx="9131400" cy="68454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9131400" cy="1573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1ceff"/>
                  </a:solidFill>
                  <a:latin typeface="Times New Roman"/>
                </a:endParaRPr>
              </a:p>
            </p:txBody>
          </p:sp>
          <p:sp>
            <p:nvSpPr>
              <p:cNvPr id="3" name="Rectangle 5"/>
              <p:cNvSpPr/>
              <p:nvPr/>
            </p:nvSpPr>
            <p:spPr>
              <a:xfrm>
                <a:off x="0" y="6688080"/>
                <a:ext cx="9131400" cy="1573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1ceff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8958240" y="0"/>
                <a:ext cx="171360" cy="6845400"/>
              </a:xfrm>
              <a:prstGeom prst="rect">
                <a:avLst/>
              </a:prstGeom>
              <a:gradFill rotWithShape="0">
                <a:gsLst>
                  <a:gs pos="0">
                    <a:srgbClr val="0000ff"/>
                  </a:gs>
                  <a:gs pos="50000">
                    <a:srgbClr val="0000e5"/>
                  </a:gs>
                  <a:gs pos="100000">
                    <a:srgbClr val="0000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1ceff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0" y="0"/>
                <a:ext cx="173160" cy="6842160"/>
              </a:xfrm>
              <a:prstGeom prst="rect">
                <a:avLst/>
              </a:prstGeom>
              <a:gradFill rotWithShape="0">
                <a:gsLst>
                  <a:gs pos="0">
                    <a:srgbClr val="0000ff"/>
                  </a:gs>
                  <a:gs pos="50000">
                    <a:srgbClr val="0000e5"/>
                  </a:gs>
                  <a:gs pos="100000">
                    <a:srgbClr val="0000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1ceff"/>
                  </a:solidFill>
                  <a:latin typeface="Times New Roman"/>
                </a:endParaRPr>
              </a:p>
            </p:txBody>
          </p:sp>
        </p:grpSp>
        <p:grpSp>
          <p:nvGrpSpPr>
            <p:cNvPr id="6" name="Group 8"/>
            <p:cNvGrpSpPr/>
            <p:nvPr/>
          </p:nvGrpSpPr>
          <p:grpSpPr>
            <a:xfrm>
              <a:off x="406440" y="206280"/>
              <a:ext cx="8359560" cy="1665360"/>
              <a:chOff x="406440" y="206280"/>
              <a:chExt cx="8359560" cy="1665360"/>
            </a:xfrm>
          </p:grpSpPr>
          <p:grpSp>
            <p:nvGrpSpPr>
              <p:cNvPr id="7" name="Group 9"/>
              <p:cNvGrpSpPr/>
              <p:nvPr/>
            </p:nvGrpSpPr>
            <p:grpSpPr>
              <a:xfrm>
                <a:off x="406440" y="646200"/>
                <a:ext cx="8359560" cy="1225440"/>
                <a:chOff x="406440" y="646200"/>
                <a:chExt cx="8359560" cy="1225440"/>
              </a:xfrm>
            </p:grpSpPr>
            <p:grpSp>
              <p:nvGrpSpPr>
                <p:cNvPr id="8" name="Group 10"/>
                <p:cNvGrpSpPr/>
                <p:nvPr/>
              </p:nvGrpSpPr>
              <p:grpSpPr>
                <a:xfrm>
                  <a:off x="407880" y="660240"/>
                  <a:ext cx="8342280" cy="1195560"/>
                  <a:chOff x="407880" y="660240"/>
                  <a:chExt cx="8342280" cy="1195560"/>
                </a:xfrm>
              </p:grpSpPr>
              <p:sp>
                <p:nvSpPr>
                  <p:cNvPr id="9" name="Line 11"/>
                  <p:cNvSpPr/>
                  <p:nvPr/>
                </p:nvSpPr>
                <p:spPr>
                  <a:xfrm>
                    <a:off x="407880" y="660240"/>
                    <a:ext cx="8336160" cy="0"/>
                  </a:xfrm>
                  <a:prstGeom prst="line">
                    <a:avLst/>
                  </a:prstGeom>
                  <a:ln w="25560">
                    <a:solidFill>
                      <a:srgbClr val="cf0e3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" name="Line 12"/>
                  <p:cNvSpPr/>
                  <p:nvPr/>
                </p:nvSpPr>
                <p:spPr>
                  <a:xfrm>
                    <a:off x="407880" y="957240"/>
                    <a:ext cx="8336160" cy="0"/>
                  </a:xfrm>
                  <a:prstGeom prst="line">
                    <a:avLst/>
                  </a:prstGeom>
                  <a:ln w="25560">
                    <a:solidFill>
                      <a:srgbClr val="cf0e3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Line 13"/>
                  <p:cNvSpPr/>
                  <p:nvPr/>
                </p:nvSpPr>
                <p:spPr>
                  <a:xfrm>
                    <a:off x="407880" y="1258920"/>
                    <a:ext cx="8318520" cy="0"/>
                  </a:xfrm>
                  <a:prstGeom prst="line">
                    <a:avLst/>
                  </a:prstGeom>
                  <a:ln w="25560">
                    <a:solidFill>
                      <a:srgbClr val="cf0e3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Line 14"/>
                  <p:cNvSpPr/>
                  <p:nvPr/>
                </p:nvSpPr>
                <p:spPr>
                  <a:xfrm>
                    <a:off x="407880" y="1555920"/>
                    <a:ext cx="8342280" cy="0"/>
                  </a:xfrm>
                  <a:prstGeom prst="line">
                    <a:avLst/>
                  </a:prstGeom>
                  <a:ln w="25560">
                    <a:solidFill>
                      <a:srgbClr val="cf0e3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Line 15"/>
                  <p:cNvSpPr/>
                  <p:nvPr/>
                </p:nvSpPr>
                <p:spPr>
                  <a:xfrm>
                    <a:off x="407880" y="1855800"/>
                    <a:ext cx="8296560" cy="0"/>
                  </a:xfrm>
                  <a:prstGeom prst="line">
                    <a:avLst/>
                  </a:prstGeom>
                  <a:ln w="25560">
                    <a:solidFill>
                      <a:srgbClr val="cf0e3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" name="Rectangle 16"/>
                <p:cNvSpPr/>
                <p:nvPr/>
              </p:nvSpPr>
              <p:spPr>
                <a:xfrm>
                  <a:off x="406440" y="646200"/>
                  <a:ext cx="111240" cy="1225440"/>
                </a:xfrm>
                <a:prstGeom prst="rect">
                  <a:avLst/>
                </a:prstGeom>
                <a:solidFill>
                  <a:srgbClr val="cf0e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c1ceff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Rectangle 17"/>
                <p:cNvSpPr/>
                <p:nvPr/>
              </p:nvSpPr>
              <p:spPr>
                <a:xfrm>
                  <a:off x="8655120" y="646200"/>
                  <a:ext cx="110880" cy="1225440"/>
                </a:xfrm>
                <a:prstGeom prst="rect">
                  <a:avLst/>
                </a:prstGeom>
                <a:solidFill>
                  <a:srgbClr val="cf0e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c1ce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" name="Group 18"/>
              <p:cNvGrpSpPr/>
              <p:nvPr/>
            </p:nvGrpSpPr>
            <p:grpSpPr>
              <a:xfrm>
                <a:off x="698400" y="206280"/>
                <a:ext cx="7767720" cy="1462320"/>
                <a:chOff x="698400" y="206280"/>
                <a:chExt cx="7767720" cy="1462320"/>
              </a:xfrm>
            </p:grpSpPr>
            <p:grpSp>
              <p:nvGrpSpPr>
                <p:cNvPr id="17" name="Group 19"/>
                <p:cNvGrpSpPr/>
                <p:nvPr/>
              </p:nvGrpSpPr>
              <p:grpSpPr>
                <a:xfrm>
                  <a:off x="698400" y="938160"/>
                  <a:ext cx="550800" cy="730440"/>
                  <a:chOff x="698400" y="938160"/>
                  <a:chExt cx="550800" cy="730440"/>
                </a:xfrm>
              </p:grpSpPr>
              <p:sp>
                <p:nvSpPr>
                  <p:cNvPr id="18" name="Freeform 20"/>
                  <p:cNvSpPr/>
                  <p:nvPr/>
                </p:nvSpPr>
                <p:spPr>
                  <a:xfrm>
                    <a:off x="971640" y="968400"/>
                    <a:ext cx="1440" cy="571320"/>
                  </a:xfrm>
                  <a:prstGeom prst="pie">
                    <a:avLst/>
                  </a:prstGeom>
                  <a:solidFill>
                    <a:srgbClr val="ef9100"/>
                  </a:solidFill>
                  <a:ln cap="rnd" w="25560">
                    <a:solidFill>
                      <a:srgbClr val="ef9100"/>
                    </a:solidFill>
                    <a:round/>
                  </a:ln>
                  <a:effectLst>
                    <a:outerShdw dist="13237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963720" y="938160"/>
                    <a:ext cx="285480" cy="189000"/>
                  </a:xfrm>
                  <a:prstGeom prst="pie">
                    <a:avLst/>
                  </a:prstGeom>
                  <a:solidFill>
                    <a:srgbClr val="ef9100"/>
                  </a:solidFill>
                  <a:ln w="0">
                    <a:noFill/>
                  </a:ln>
                  <a:effectLst>
                    <a:outerShdw dist="13237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698400" y="1465200"/>
                    <a:ext cx="284400" cy="203400"/>
                  </a:xfrm>
                  <a:prstGeom prst="pie">
                    <a:avLst/>
                  </a:prstGeom>
                  <a:solidFill>
                    <a:srgbClr val="ef9100"/>
                  </a:solidFill>
                  <a:ln w="0">
                    <a:noFill/>
                  </a:ln>
                  <a:effectLst>
                    <a:outerShdw dist="13237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686720" y="484200"/>
                  <a:ext cx="779400" cy="826920"/>
                  <a:chOff x="7686720" y="484200"/>
                  <a:chExt cx="779400" cy="8269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>
                    <a:off x="7967520" y="631800"/>
                    <a:ext cx="1800" cy="555480"/>
                  </a:xfrm>
                  <a:prstGeom prst="pie">
                    <a:avLst/>
                  </a:prstGeom>
                  <a:solidFill>
                    <a:srgbClr val="ef9100"/>
                  </a:solidFill>
                  <a:ln cap="rnd" w="25560">
                    <a:solidFill>
                      <a:srgbClr val="ef9100"/>
                    </a:solidFill>
                    <a:round/>
                  </a:ln>
                  <a:effectLst>
                    <a:outerShdw dist="13237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7686720" y="1114560"/>
                    <a:ext cx="291960" cy="196560"/>
                  </a:xfrm>
                  <a:prstGeom prst="pie">
                    <a:avLst/>
                  </a:prstGeom>
                  <a:solidFill>
                    <a:srgbClr val="ef9100"/>
                  </a:solidFill>
                  <a:ln w="0">
                    <a:noFill/>
                  </a:ln>
                  <a:effectLst>
                    <a:outerShdw dist="13237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7964640" y="484200"/>
                    <a:ext cx="482400" cy="316080"/>
                  </a:xfrm>
                  <a:prstGeom prst="pie">
                    <a:avLst/>
                  </a:prstGeom>
                  <a:solidFill>
                    <a:srgbClr val="ef9100"/>
                  </a:solidFill>
                  <a:ln w="0">
                    <a:noFill/>
                  </a:ln>
                  <a:effectLst>
                    <a:outerShdw dist="13237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8454960" y="495360"/>
                    <a:ext cx="1800" cy="581040"/>
                  </a:xfrm>
                  <a:prstGeom prst="pie">
                    <a:avLst/>
                  </a:prstGeom>
                  <a:solidFill>
                    <a:srgbClr val="ef9100"/>
                  </a:solidFill>
                  <a:ln cap="rnd" w="25560">
                    <a:solidFill>
                      <a:srgbClr val="ef9100"/>
                    </a:solidFill>
                    <a:round/>
                  </a:ln>
                  <a:effectLst>
                    <a:outerShdw dist="13237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8175600" y="1017720"/>
                    <a:ext cx="290520" cy="195120"/>
                  </a:xfrm>
                  <a:prstGeom prst="pie">
                    <a:avLst/>
                  </a:prstGeom>
                  <a:solidFill>
                    <a:srgbClr val="ef9100"/>
                  </a:solidFill>
                  <a:ln w="0">
                    <a:noFill/>
                  </a:ln>
                  <a:effectLst>
                    <a:outerShdw dist="13237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1413000" y="206280"/>
                  <a:ext cx="796680" cy="836640"/>
                  <a:chOff x="1413000" y="206280"/>
                  <a:chExt cx="796680" cy="83664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>
                    <a:off x="1704960" y="355680"/>
                    <a:ext cx="1440" cy="561960"/>
                  </a:xfrm>
                  <a:prstGeom prst="pie">
                    <a:avLst/>
                  </a:prstGeom>
                  <a:solidFill>
                    <a:srgbClr val="ef9100"/>
                  </a:solidFill>
                  <a:ln cap="rnd" w="25560">
                    <a:solidFill>
                      <a:srgbClr val="ef9100"/>
                    </a:solidFill>
                    <a:round/>
                  </a:ln>
                  <a:effectLst>
                    <a:outerShdw dist="13237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1413000" y="841320"/>
                    <a:ext cx="303120" cy="201600"/>
                  </a:xfrm>
                  <a:prstGeom prst="pie">
                    <a:avLst/>
                  </a:prstGeom>
                  <a:solidFill>
                    <a:srgbClr val="ef9100"/>
                  </a:solidFill>
                  <a:ln w="0">
                    <a:noFill/>
                  </a:ln>
                  <a:effectLst>
                    <a:outerShdw dist="13237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1697040" y="206280"/>
                    <a:ext cx="495360" cy="325440"/>
                  </a:xfrm>
                  <a:prstGeom prst="pie">
                    <a:avLst/>
                  </a:prstGeom>
                  <a:solidFill>
                    <a:srgbClr val="ef9100"/>
                  </a:solidFill>
                  <a:ln w="0">
                    <a:noFill/>
                  </a:ln>
                  <a:effectLst>
                    <a:outerShdw dist="13237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2198520" y="216000"/>
                    <a:ext cx="1800" cy="577800"/>
                  </a:xfrm>
                  <a:prstGeom prst="pie">
                    <a:avLst/>
                  </a:prstGeom>
                  <a:solidFill>
                    <a:srgbClr val="ef9100"/>
                  </a:solidFill>
                  <a:ln cap="rnd" w="25560">
                    <a:solidFill>
                      <a:srgbClr val="ef9100"/>
                    </a:solidFill>
                    <a:round/>
                  </a:ln>
                  <a:effectLst>
                    <a:outerShdw dist="13237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1906560" y="714240"/>
                    <a:ext cx="303120" cy="201600"/>
                  </a:xfrm>
                  <a:prstGeom prst="pie">
                    <a:avLst/>
                  </a:prstGeom>
                  <a:solidFill>
                    <a:srgbClr val="ef9100"/>
                  </a:solidFill>
                  <a:ln w="0">
                    <a:noFill/>
                  </a:ln>
                  <a:effectLst>
                    <a:outerShdw dist="13237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body"/>
          </p:nvPr>
        </p:nvSpPr>
        <p:spPr>
          <a:xfrm>
            <a:off x="685800" y="2085840"/>
            <a:ext cx="77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f91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f0e30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f91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c1ce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c1ce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 type="dt" idx="1"/>
          </p:nvPr>
        </p:nvSpPr>
        <p:spPr>
          <a:xfrm>
            <a:off x="685800" y="63241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1ce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 type="sldNum" idx="2"/>
          </p:nvPr>
        </p:nvSpPr>
        <p:spPr>
          <a:xfrm>
            <a:off x="6553080" y="63241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E18AA-4434-44DF-8919-D6AD3427EF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 type="ftr" idx="3"/>
          </p:nvPr>
        </p:nvSpPr>
        <p:spPr>
          <a:xfrm>
            <a:off x="3124080" y="63241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1ce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2"/>
          <p:cNvGrpSpPr/>
          <p:nvPr/>
        </p:nvGrpSpPr>
        <p:grpSpPr>
          <a:xfrm>
            <a:off x="0" y="0"/>
            <a:ext cx="9131400" cy="6845400"/>
            <a:chOff x="0" y="0"/>
            <a:chExt cx="9131400" cy="6845400"/>
          </a:xfrm>
        </p:grpSpPr>
        <p:grpSp>
          <p:nvGrpSpPr>
            <p:cNvPr id="75" name="Group 3"/>
            <p:cNvGrpSpPr/>
            <p:nvPr/>
          </p:nvGrpSpPr>
          <p:grpSpPr>
            <a:xfrm>
              <a:off x="0" y="0"/>
              <a:ext cx="9131400" cy="6845400"/>
              <a:chOff x="0" y="0"/>
              <a:chExt cx="9131400" cy="6845400"/>
            </a:xfrm>
          </p:grpSpPr>
          <p:sp>
            <p:nvSpPr>
              <p:cNvPr id="76" name="Rectangle 4"/>
              <p:cNvSpPr/>
              <p:nvPr/>
            </p:nvSpPr>
            <p:spPr>
              <a:xfrm>
                <a:off x="0" y="0"/>
                <a:ext cx="9131400" cy="1573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1ceff"/>
                  </a:solidFill>
                  <a:latin typeface="Times New Roman"/>
                </a:endParaRPr>
              </a:p>
            </p:txBody>
          </p:sp>
          <p:sp>
            <p:nvSpPr>
              <p:cNvPr id="77" name="Rectangle 5"/>
              <p:cNvSpPr/>
              <p:nvPr/>
            </p:nvSpPr>
            <p:spPr>
              <a:xfrm>
                <a:off x="0" y="6688080"/>
                <a:ext cx="9131400" cy="1573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1ceff"/>
                  </a:solidFill>
                  <a:latin typeface="Times New Roman"/>
                </a:endParaRPr>
              </a:p>
            </p:txBody>
          </p:sp>
          <p:sp>
            <p:nvSpPr>
              <p:cNvPr id="78" name="Rectangle 6"/>
              <p:cNvSpPr/>
              <p:nvPr/>
            </p:nvSpPr>
            <p:spPr>
              <a:xfrm>
                <a:off x="8958240" y="0"/>
                <a:ext cx="171360" cy="6845400"/>
              </a:xfrm>
              <a:prstGeom prst="rect">
                <a:avLst/>
              </a:prstGeom>
              <a:gradFill rotWithShape="0">
                <a:gsLst>
                  <a:gs pos="0">
                    <a:srgbClr val="0000ff"/>
                  </a:gs>
                  <a:gs pos="50000">
                    <a:srgbClr val="0000e5"/>
                  </a:gs>
                  <a:gs pos="100000">
                    <a:srgbClr val="0000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1ceff"/>
                  </a:solidFill>
                  <a:latin typeface="Times New Roman"/>
                </a:endParaRPr>
              </a:p>
            </p:txBody>
          </p:sp>
          <p:sp>
            <p:nvSpPr>
              <p:cNvPr id="79" name="Rectangle 7"/>
              <p:cNvSpPr/>
              <p:nvPr/>
            </p:nvSpPr>
            <p:spPr>
              <a:xfrm>
                <a:off x="0" y="0"/>
                <a:ext cx="173160" cy="6842160"/>
              </a:xfrm>
              <a:prstGeom prst="rect">
                <a:avLst/>
              </a:prstGeom>
              <a:gradFill rotWithShape="0">
                <a:gsLst>
                  <a:gs pos="0">
                    <a:srgbClr val="0000ff"/>
                  </a:gs>
                  <a:gs pos="50000">
                    <a:srgbClr val="0000e5"/>
                  </a:gs>
                  <a:gs pos="100000">
                    <a:srgbClr val="0000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1ceff"/>
                  </a:solidFill>
                  <a:latin typeface="Times New Roman"/>
                </a:endParaRPr>
              </a:p>
            </p:txBody>
          </p:sp>
        </p:grpSp>
        <p:grpSp>
          <p:nvGrpSpPr>
            <p:cNvPr id="80" name="Group 8"/>
            <p:cNvGrpSpPr/>
            <p:nvPr/>
          </p:nvGrpSpPr>
          <p:grpSpPr>
            <a:xfrm>
              <a:off x="406440" y="206280"/>
              <a:ext cx="8359560" cy="1665360"/>
              <a:chOff x="406440" y="206280"/>
              <a:chExt cx="8359560" cy="1665360"/>
            </a:xfrm>
          </p:grpSpPr>
          <p:grpSp>
            <p:nvGrpSpPr>
              <p:cNvPr id="81" name="Group 9"/>
              <p:cNvGrpSpPr/>
              <p:nvPr/>
            </p:nvGrpSpPr>
            <p:grpSpPr>
              <a:xfrm>
                <a:off x="406440" y="646200"/>
                <a:ext cx="8359560" cy="1225440"/>
                <a:chOff x="406440" y="646200"/>
                <a:chExt cx="8359560" cy="1225440"/>
              </a:xfrm>
            </p:grpSpPr>
            <p:grpSp>
              <p:nvGrpSpPr>
                <p:cNvPr id="82" name="Group 10"/>
                <p:cNvGrpSpPr/>
                <p:nvPr/>
              </p:nvGrpSpPr>
              <p:grpSpPr>
                <a:xfrm>
                  <a:off x="407880" y="660240"/>
                  <a:ext cx="8342280" cy="1195560"/>
                  <a:chOff x="407880" y="660240"/>
                  <a:chExt cx="8342280" cy="1195560"/>
                </a:xfrm>
              </p:grpSpPr>
              <p:sp>
                <p:nvSpPr>
                  <p:cNvPr id="83" name="Line 11"/>
                  <p:cNvSpPr/>
                  <p:nvPr/>
                </p:nvSpPr>
                <p:spPr>
                  <a:xfrm>
                    <a:off x="407880" y="660240"/>
                    <a:ext cx="8336160" cy="0"/>
                  </a:xfrm>
                  <a:prstGeom prst="line">
                    <a:avLst/>
                  </a:prstGeom>
                  <a:ln w="25560">
                    <a:solidFill>
                      <a:srgbClr val="cf0e3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Line 12"/>
                  <p:cNvSpPr/>
                  <p:nvPr/>
                </p:nvSpPr>
                <p:spPr>
                  <a:xfrm>
                    <a:off x="407880" y="957240"/>
                    <a:ext cx="8336160" cy="0"/>
                  </a:xfrm>
                  <a:prstGeom prst="line">
                    <a:avLst/>
                  </a:prstGeom>
                  <a:ln w="25560">
                    <a:solidFill>
                      <a:srgbClr val="cf0e3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Line 13"/>
                  <p:cNvSpPr/>
                  <p:nvPr/>
                </p:nvSpPr>
                <p:spPr>
                  <a:xfrm>
                    <a:off x="407880" y="1258920"/>
                    <a:ext cx="8318520" cy="0"/>
                  </a:xfrm>
                  <a:prstGeom prst="line">
                    <a:avLst/>
                  </a:prstGeom>
                  <a:ln w="25560">
                    <a:solidFill>
                      <a:srgbClr val="cf0e3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Line 14"/>
                  <p:cNvSpPr/>
                  <p:nvPr/>
                </p:nvSpPr>
                <p:spPr>
                  <a:xfrm>
                    <a:off x="407880" y="1555920"/>
                    <a:ext cx="8342280" cy="0"/>
                  </a:xfrm>
                  <a:prstGeom prst="line">
                    <a:avLst/>
                  </a:prstGeom>
                  <a:ln w="25560">
                    <a:solidFill>
                      <a:srgbClr val="cf0e3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Line 15"/>
                  <p:cNvSpPr/>
                  <p:nvPr/>
                </p:nvSpPr>
                <p:spPr>
                  <a:xfrm>
                    <a:off x="407880" y="1855800"/>
                    <a:ext cx="8296560" cy="0"/>
                  </a:xfrm>
                  <a:prstGeom prst="line">
                    <a:avLst/>
                  </a:prstGeom>
                  <a:ln w="25560">
                    <a:solidFill>
                      <a:srgbClr val="cf0e3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8" name="Rectangle 16"/>
                <p:cNvSpPr/>
                <p:nvPr/>
              </p:nvSpPr>
              <p:spPr>
                <a:xfrm>
                  <a:off x="406440" y="646200"/>
                  <a:ext cx="111240" cy="1225440"/>
                </a:xfrm>
                <a:prstGeom prst="rect">
                  <a:avLst/>
                </a:prstGeom>
                <a:solidFill>
                  <a:srgbClr val="cf0e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c1ceff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Rectangle 17"/>
                <p:cNvSpPr/>
                <p:nvPr/>
              </p:nvSpPr>
              <p:spPr>
                <a:xfrm>
                  <a:off x="8655120" y="646200"/>
                  <a:ext cx="110880" cy="1225440"/>
                </a:xfrm>
                <a:prstGeom prst="rect">
                  <a:avLst/>
                </a:prstGeom>
                <a:solidFill>
                  <a:srgbClr val="cf0e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c1ce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" name="Group 18"/>
              <p:cNvGrpSpPr/>
              <p:nvPr/>
            </p:nvGrpSpPr>
            <p:grpSpPr>
              <a:xfrm>
                <a:off x="698400" y="206280"/>
                <a:ext cx="7767720" cy="1462320"/>
                <a:chOff x="698400" y="206280"/>
                <a:chExt cx="7767720" cy="1462320"/>
              </a:xfrm>
            </p:grpSpPr>
            <p:grpSp>
              <p:nvGrpSpPr>
                <p:cNvPr id="91" name="Group 19"/>
                <p:cNvGrpSpPr/>
                <p:nvPr/>
              </p:nvGrpSpPr>
              <p:grpSpPr>
                <a:xfrm>
                  <a:off x="698400" y="938160"/>
                  <a:ext cx="550800" cy="730440"/>
                  <a:chOff x="698400" y="938160"/>
                  <a:chExt cx="550800" cy="730440"/>
                </a:xfrm>
              </p:grpSpPr>
              <p:sp>
                <p:nvSpPr>
                  <p:cNvPr id="92" name="Freeform 20"/>
                  <p:cNvSpPr/>
                  <p:nvPr/>
                </p:nvSpPr>
                <p:spPr>
                  <a:xfrm>
                    <a:off x="971640" y="968400"/>
                    <a:ext cx="1440" cy="571320"/>
                  </a:xfrm>
                  <a:prstGeom prst="pie">
                    <a:avLst/>
                  </a:prstGeom>
                  <a:solidFill>
                    <a:srgbClr val="ef9100"/>
                  </a:solidFill>
                  <a:ln cap="rnd" w="25560">
                    <a:solidFill>
                      <a:srgbClr val="ef9100"/>
                    </a:solidFill>
                    <a:round/>
                  </a:ln>
                  <a:effectLst>
                    <a:outerShdw dist="13237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21"/>
                  <p:cNvSpPr/>
                  <p:nvPr/>
                </p:nvSpPr>
                <p:spPr>
                  <a:xfrm>
                    <a:off x="963720" y="938160"/>
                    <a:ext cx="285480" cy="189000"/>
                  </a:xfrm>
                  <a:prstGeom prst="pie">
                    <a:avLst/>
                  </a:prstGeom>
                  <a:solidFill>
                    <a:srgbClr val="ef9100"/>
                  </a:solidFill>
                  <a:ln w="0">
                    <a:noFill/>
                  </a:ln>
                  <a:effectLst>
                    <a:outerShdw dist="13237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22"/>
                  <p:cNvSpPr/>
                  <p:nvPr/>
                </p:nvSpPr>
                <p:spPr>
                  <a:xfrm>
                    <a:off x="698400" y="1465200"/>
                    <a:ext cx="284400" cy="203400"/>
                  </a:xfrm>
                  <a:prstGeom prst="pie">
                    <a:avLst/>
                  </a:prstGeom>
                  <a:solidFill>
                    <a:srgbClr val="ef9100"/>
                  </a:solidFill>
                  <a:ln w="0">
                    <a:noFill/>
                  </a:ln>
                  <a:effectLst>
                    <a:outerShdw dist="13237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" name="Group 23"/>
                <p:cNvGrpSpPr/>
                <p:nvPr/>
              </p:nvGrpSpPr>
              <p:grpSpPr>
                <a:xfrm>
                  <a:off x="7686720" y="484200"/>
                  <a:ext cx="779400" cy="826920"/>
                  <a:chOff x="7686720" y="484200"/>
                  <a:chExt cx="779400" cy="826920"/>
                </a:xfrm>
              </p:grpSpPr>
              <p:sp>
                <p:nvSpPr>
                  <p:cNvPr id="96" name="Freeform 24"/>
                  <p:cNvSpPr/>
                  <p:nvPr/>
                </p:nvSpPr>
                <p:spPr>
                  <a:xfrm>
                    <a:off x="7967520" y="631800"/>
                    <a:ext cx="1800" cy="555480"/>
                  </a:xfrm>
                  <a:prstGeom prst="pie">
                    <a:avLst/>
                  </a:prstGeom>
                  <a:solidFill>
                    <a:srgbClr val="ef9100"/>
                  </a:solidFill>
                  <a:ln cap="rnd" w="25560">
                    <a:solidFill>
                      <a:srgbClr val="ef9100"/>
                    </a:solidFill>
                    <a:round/>
                  </a:ln>
                  <a:effectLst>
                    <a:outerShdw dist="13237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25"/>
                  <p:cNvSpPr/>
                  <p:nvPr/>
                </p:nvSpPr>
                <p:spPr>
                  <a:xfrm>
                    <a:off x="7686720" y="1114560"/>
                    <a:ext cx="291960" cy="196560"/>
                  </a:xfrm>
                  <a:prstGeom prst="pie">
                    <a:avLst/>
                  </a:prstGeom>
                  <a:solidFill>
                    <a:srgbClr val="ef9100"/>
                  </a:solidFill>
                  <a:ln w="0">
                    <a:noFill/>
                  </a:ln>
                  <a:effectLst>
                    <a:outerShdw dist="13237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26"/>
                  <p:cNvSpPr/>
                  <p:nvPr/>
                </p:nvSpPr>
                <p:spPr>
                  <a:xfrm>
                    <a:off x="7964640" y="484200"/>
                    <a:ext cx="482400" cy="316080"/>
                  </a:xfrm>
                  <a:prstGeom prst="pie">
                    <a:avLst/>
                  </a:prstGeom>
                  <a:solidFill>
                    <a:srgbClr val="ef9100"/>
                  </a:solidFill>
                  <a:ln w="0">
                    <a:noFill/>
                  </a:ln>
                  <a:effectLst>
                    <a:outerShdw dist="13237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27"/>
                  <p:cNvSpPr/>
                  <p:nvPr/>
                </p:nvSpPr>
                <p:spPr>
                  <a:xfrm>
                    <a:off x="8454960" y="495360"/>
                    <a:ext cx="1800" cy="581040"/>
                  </a:xfrm>
                  <a:prstGeom prst="pie">
                    <a:avLst/>
                  </a:prstGeom>
                  <a:solidFill>
                    <a:srgbClr val="ef9100"/>
                  </a:solidFill>
                  <a:ln cap="rnd" w="25560">
                    <a:solidFill>
                      <a:srgbClr val="ef9100"/>
                    </a:solidFill>
                    <a:round/>
                  </a:ln>
                  <a:effectLst>
                    <a:outerShdw dist="13237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28"/>
                  <p:cNvSpPr/>
                  <p:nvPr/>
                </p:nvSpPr>
                <p:spPr>
                  <a:xfrm>
                    <a:off x="8175600" y="1017720"/>
                    <a:ext cx="290520" cy="195120"/>
                  </a:xfrm>
                  <a:prstGeom prst="pie">
                    <a:avLst/>
                  </a:prstGeom>
                  <a:solidFill>
                    <a:srgbClr val="ef9100"/>
                  </a:solidFill>
                  <a:ln w="0">
                    <a:noFill/>
                  </a:ln>
                  <a:effectLst>
                    <a:outerShdw dist="13237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1" name="Group 29"/>
                <p:cNvGrpSpPr/>
                <p:nvPr/>
              </p:nvGrpSpPr>
              <p:grpSpPr>
                <a:xfrm>
                  <a:off x="1413000" y="206280"/>
                  <a:ext cx="796680" cy="836640"/>
                  <a:chOff x="1413000" y="206280"/>
                  <a:chExt cx="796680" cy="836640"/>
                </a:xfrm>
              </p:grpSpPr>
              <p:sp>
                <p:nvSpPr>
                  <p:cNvPr id="102" name="Freeform 30"/>
                  <p:cNvSpPr/>
                  <p:nvPr/>
                </p:nvSpPr>
                <p:spPr>
                  <a:xfrm>
                    <a:off x="1704960" y="355680"/>
                    <a:ext cx="1440" cy="561960"/>
                  </a:xfrm>
                  <a:prstGeom prst="pie">
                    <a:avLst/>
                  </a:prstGeom>
                  <a:solidFill>
                    <a:srgbClr val="ef9100"/>
                  </a:solidFill>
                  <a:ln cap="rnd" w="25560">
                    <a:solidFill>
                      <a:srgbClr val="ef9100"/>
                    </a:solidFill>
                    <a:round/>
                  </a:ln>
                  <a:effectLst>
                    <a:outerShdw dist="13237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31"/>
                  <p:cNvSpPr/>
                  <p:nvPr/>
                </p:nvSpPr>
                <p:spPr>
                  <a:xfrm>
                    <a:off x="1413000" y="841320"/>
                    <a:ext cx="303120" cy="201600"/>
                  </a:xfrm>
                  <a:prstGeom prst="pie">
                    <a:avLst/>
                  </a:prstGeom>
                  <a:solidFill>
                    <a:srgbClr val="ef9100"/>
                  </a:solidFill>
                  <a:ln w="0">
                    <a:noFill/>
                  </a:ln>
                  <a:effectLst>
                    <a:outerShdw dist="13237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32"/>
                  <p:cNvSpPr/>
                  <p:nvPr/>
                </p:nvSpPr>
                <p:spPr>
                  <a:xfrm>
                    <a:off x="1697040" y="206280"/>
                    <a:ext cx="495360" cy="325440"/>
                  </a:xfrm>
                  <a:prstGeom prst="pie">
                    <a:avLst/>
                  </a:prstGeom>
                  <a:solidFill>
                    <a:srgbClr val="ef9100"/>
                  </a:solidFill>
                  <a:ln w="0">
                    <a:noFill/>
                  </a:ln>
                  <a:effectLst>
                    <a:outerShdw dist="13237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33"/>
                  <p:cNvSpPr/>
                  <p:nvPr/>
                </p:nvSpPr>
                <p:spPr>
                  <a:xfrm>
                    <a:off x="2198520" y="216000"/>
                    <a:ext cx="1800" cy="577800"/>
                  </a:xfrm>
                  <a:prstGeom prst="pie">
                    <a:avLst/>
                  </a:prstGeom>
                  <a:solidFill>
                    <a:srgbClr val="ef9100"/>
                  </a:solidFill>
                  <a:ln cap="rnd" w="25560">
                    <a:solidFill>
                      <a:srgbClr val="ef9100"/>
                    </a:solidFill>
                    <a:round/>
                  </a:ln>
                  <a:effectLst>
                    <a:outerShdw dist="13237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34"/>
                  <p:cNvSpPr/>
                  <p:nvPr/>
                </p:nvSpPr>
                <p:spPr>
                  <a:xfrm>
                    <a:off x="1906560" y="714240"/>
                    <a:ext cx="303120" cy="201600"/>
                  </a:xfrm>
                  <a:prstGeom prst="pie">
                    <a:avLst/>
                  </a:prstGeom>
                  <a:solidFill>
                    <a:srgbClr val="ef9100"/>
                  </a:solidFill>
                  <a:ln w="0">
                    <a:noFill/>
                  </a:ln>
                  <a:effectLst>
                    <a:outerShdw dist="13237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2085840"/>
            <a:ext cx="77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f91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f0e30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f91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c1ce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c1ce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1ce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1ce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1ce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5F39A-6C6B-4887-BE64-F51C552ECFF1}" type="slidenum">
              <a:rPr b="0" lang="en-US" sz="1400" spc="-1" strike="noStrike">
                <a:solidFill>
                  <a:srgbClr val="c1ce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vickiblackwell.com/timer.html" TargetMode="External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39.xml"/><Relationship Id="rId3" Type="http://schemas.openxmlformats.org/officeDocument/2006/relationships/slide" Target="slide72.xml"/><Relationship Id="rId4" Type="http://schemas.openxmlformats.org/officeDocument/2006/relationships/slide" Target="slide101.xml"/><Relationship Id="rId5" Type="http://schemas.openxmlformats.org/officeDocument/2006/relationships/slide" Target="slide117.xml"/><Relationship Id="rId6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ackinacparks.com/images/Mill_StoneLogo500HP.jpg&amp;imgrefurl=http://www.mackinacparks.com/parks/a-brief-history_576/&amp;h=474&amp;w=508&amp;sz=196&amp;hl=en&amp;start=110&amp;usg=__aw8k9It8mJD3UDrFcd0gO8xzBmk=&amp;tbnid=4p6qgVTRaId1SM:&amp;tbnh=122&amp;tbnw=131&amp;prev=/images?q=mill&amp;start=105&amp;gbv=2&amp;hl=en&amp;sa=N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images.google.com/imgres?imgurl=http://www.capelinks.com/images/photo-gallery/general/brewster_grist_mill.jpg&amp;imgrefurl=http://www.capelinks.com/cape-cod/photos/detail/10/&amp;h=480&amp;w=640&amp;sz=129&amp;hl=en&amp;start=2&amp;usg=__70lZn1cGcmEmAjltpWdKobYFwr8=&amp;tbnid=GTqV6ZQf-IThSM:&amp;tbnh=103&amp;tbnw=137&amp;prev=/images?q=mill&amp;gbv=2&amp;hl=en&amp;sa=N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images.google.com/imgres?imgurl=http://byteshuffler.com/rospo/blog/uploaded_images/MillHopper-740456.jpg&amp;imgrefurl=http://gardenplotter.com/rospo/blog/2006/04/mill-rite-grain-mill-from-retsel.html&amp;h=1024&amp;w=771&amp;sz=158&amp;hl=en&amp;start=24&amp;usg=__XEK1HUatDvp7MTteFF_4XoFukcw=&amp;tbnid=SA-Y5O-iwQr_QM:&amp;tbnh=150&amp;tbnw=113&amp;prev=/images?q=mill&amp;start=21&amp;gbv=2&amp;hl=en&amp;sa=N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images.google.com/imgres?imgurl=http://www.sbmchina.com/products/images/grinding_mill.jpg&amp;imgrefurl=http://www.sbmchina.com/products/grinding_mill1.html&amp;h=595&amp;w=500&amp;sz=56&amp;hl=en&amp;start=53&amp;usg=__CGkTqNq-jvcdyKcSuXuaoofDyYw=&amp;tbnid=85pdYwEJeAzW_M:&amp;tbnh=135&amp;tbnw=113&amp;prev=/images?q=mill&amp;start=42&amp;gbv=2&amp;hl=en&amp;sa=N" TargetMode="External"/><Relationship Id="rId8" Type="http://schemas.openxmlformats.org/officeDocument/2006/relationships/image" Target="../media/image5.jpeg"/><Relationship Id="rId9" Type="http://schemas.openxmlformats.org/officeDocument/2006/relationships/hyperlink" Target="http://images.google.com/imgres?imgurl=http://members.cox.net/blueridgecyclist/2005Trip/w-mabry%2520mill.jpg&amp;imgrefurl=http://members.cox.net/blueridgecyclist/2005Trip/index.htm&amp;h=480&amp;w=640&amp;sz=73&amp;hl=en&amp;start=72&amp;usg=__ZhL6bx-2Rc8oeNbniFTxT9Bm0FQ=&amp;tbnid=jc92A1AYsi4Y-M:&amp;tbnh=103&amp;tbnw=137&amp;prev=/images?q=mill&amp;start=63&amp;gbv=2&amp;hl=en&amp;sa=N" TargetMode="External"/><Relationship Id="rId10" Type="http://schemas.openxmlformats.org/officeDocument/2006/relationships/image" Target="../media/image6.jpeg"/><Relationship Id="rId11" Type="http://schemas.openxmlformats.org/officeDocument/2006/relationships/hyperlink" Target="http://images.google.com/imgres?imgurl=http://www.normist.co.uk/gra/mill.gif&amp;imgrefurl=http://www.normist.co.uk/mills.htm&amp;h=570&amp;w=481&amp;sz=37&amp;hl=en&amp;start=15&amp;usg=___KY4P_99tDFTOlMV1RExmTp2k9Q=&amp;tbnid=h28qpOPUGDZXKM:&amp;tbnh=134&amp;tbnw=113&amp;prev=/images?q=mill&amp;gbv=2&amp;hl=en&amp;sa=N" TargetMode="External"/><Relationship Id="rId12" Type="http://schemas.openxmlformats.org/officeDocument/2006/relationships/image" Target="../media/image7.jpeg"/><Relationship Id="rId1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workseries.com/images/musician/Musician2.jpg&amp;imgrefurl=http://www.workseries.com/press.php&amp;h=2408&amp;w=1564&amp;sz=2679&amp;hl=en&amp;start=1&amp;usg=__TVJy5WXMgBtyIOM2VAEUDzLSjdw=&amp;tbnid=PbQX9zO8AAkY9M:&amp;tbnh=150&amp;tbnw=97&amp;prev=/images?q=musician&amp;gbv=2&amp;hl=en&amp;sa=G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images.google.com/imgres?imgurl=http://www.feightstudios.com/images/musician.jpg&amp;imgrefurl=http://www.feightstudios.com/etc.htm&amp;h=396&amp;w=279&amp;sz=30&amp;hl=en&amp;start=2&amp;usg=__34lQerSXtVSxQOEixUumIT7ZIw4=&amp;tbnid=W5VjLxmeYr9CmM:&amp;tbnh=124&amp;tbnw=87&amp;prev=/images?q=musician&amp;gbv=2&amp;hl=en&amp;sa=G" TargetMode="External"/><Relationship Id="rId4" Type="http://schemas.openxmlformats.org/officeDocument/2006/relationships/image" Target="../media/image9.jpeg"/><Relationship Id="rId5" Type="http://schemas.openxmlformats.org/officeDocument/2006/relationships/hyperlink" Target="http://images.google.com/imgres?imgurl=http://winewriter.files.wordpress.com/2007/12/musician.jpg&amp;imgrefurl=http://winewriter.wordpress.com/2007/12/22/musicians-artists-and-writers-8x-more-likely-to-have-synesthesia-than-general-population/&amp;h=540&amp;w=720&amp;sz=99&amp;hl=en&amp;start=3&amp;usg=__VR0Og7h0EKuNwWkcFva-YBM1LUY=&amp;tbnid=XcXv20BJTTK-ZM:&amp;tbnh=105&amp;tbnw=140&amp;prev=/images?q=musician&amp;gbv=2&amp;hl=en&amp;sa=G" TargetMode="External"/><Relationship Id="rId6" Type="http://schemas.openxmlformats.org/officeDocument/2006/relationships/image" Target="../media/image10.jpeg"/><Relationship Id="rId7" Type="http://schemas.openxmlformats.org/officeDocument/2006/relationships/hyperlink" Target="http://images.google.com/imgres?imgurl=http://esterofl.org/gecac/images/gen-musician.jpg&amp;imgrefurl=http://esterofl.org/gecac/links.htm&amp;h=1024&amp;w=819&amp;sz=204&amp;hl=en&amp;start=16&amp;usg=__vlOxNbVRiN52iCa-mhRSFsVgwmU=&amp;tbnid=nQ468fe4i4jazM:&amp;tbnh=150&amp;tbnw=120&amp;prev=/images?q=musician&amp;gbv=2&amp;hl=en&amp;sa=G" TargetMode="External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image" Target="../media/image14.jpeg"/><Relationship Id="rId1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hen should we work together?  When should we work alone?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9" name="Picture 17" descr="1558586946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743200" y="2133720"/>
            <a:ext cx="30942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01800" y="876240"/>
            <a:ext cx="7354800" cy="97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Bremen Town Musicia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828800" y="3809880"/>
          <a:ext cx="6095880" cy="10670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remen Town Musicians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ednesday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Journal Topic</a:t>
                      </a:r>
                      <a:endParaRPr b="0" lang="en-US" sz="36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  </a:t>
                      </a:r>
                      <a:r>
                        <a:rPr b="1" i="1" lang="en-US" sz="32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Write about a time when you worked with someone else to accomplish something.</a:t>
                      </a: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68" name="Picture 18" descr="1558586946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305920" y="5791320"/>
            <a:ext cx="493560" cy="68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remen Town Musicians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hursday 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1600200" y="2209680"/>
          <a:ext cx="6095880" cy="37609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77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Morning Warm-Up</a:t>
                      </a:r>
                      <a:endParaRPr b="0" lang="en-US" sz="36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ome animals work as teams.  What things might an animal need help with?  Today we will read about how some animals work together.</a:t>
                      </a:r>
                      <a:endParaRPr b="0" lang="en-US" sz="32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remen Town Musicians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hursday 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1600200" y="2209680"/>
          <a:ext cx="6095880" cy="37609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77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Morning Warm-Up</a:t>
                      </a:r>
                      <a:endParaRPr b="0" lang="en-US" sz="36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ome </a:t>
                      </a:r>
                      <a:r>
                        <a:rPr b="1" i="1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nimals</a:t>
                      </a:r>
                      <a:r>
                        <a:rPr b="1" i="1" lang="en-US" sz="32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work as </a:t>
                      </a:r>
                      <a:r>
                        <a:rPr b="1" i="1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eams</a:t>
                      </a:r>
                      <a:r>
                        <a:rPr b="1" i="1" lang="en-US" sz="32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.  What </a:t>
                      </a:r>
                      <a:r>
                        <a:rPr b="1" i="1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hings</a:t>
                      </a:r>
                      <a:r>
                        <a:rPr b="1" i="1" lang="en-US" sz="32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might an animal need help with?  Today we will read about how some </a:t>
                      </a:r>
                      <a:r>
                        <a:rPr b="1" i="1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nimals</a:t>
                      </a:r>
                      <a:r>
                        <a:rPr b="1" i="1" lang="en-US" sz="32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work together.</a:t>
                      </a:r>
                      <a:endParaRPr b="0" lang="en-US" sz="32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01800" y="708120"/>
            <a:ext cx="7354800" cy="109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oday we will learn about: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523520" y="2285640"/>
            <a:ext cx="656604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f0e3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c1ceff"/>
                </a:solidFill>
                <a:latin typeface="Arial"/>
              </a:rPr>
              <a:t>plurals,</a:t>
            </a:r>
            <a:endParaRPr b="0" lang="en-US" sz="36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f0e3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c1ceff"/>
                </a:solidFill>
                <a:latin typeface="Arial"/>
              </a:rPr>
              <a:t>plural nouns that change spelling</a:t>
            </a:r>
            <a:endParaRPr b="0" lang="en-US" sz="36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5" dur="indefinite" restart="never" nodeType="tmRoot">
          <p:childTnLst>
            <p:seq>
              <p:cTn id="956" dur="indefinite" nodeType="mainSeq">
                <p:childTnLst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entence Reading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0880" y="2085840"/>
            <a:ext cx="8763120" cy="477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I’m putting vases on a shelf above the dishes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Don’t go toward those bushes where the puppies play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She’ll have to spell the whole word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They’ll dig enough holes to plant crops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The cages are full of a bunch of bunnies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She’s making dresses like those from long ago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remen Town Musician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219320" y="2133720"/>
          <a:ext cx="3470040" cy="4114800"/>
        </p:xfrm>
        <a:graphic>
          <a:graphicData uri="http://schemas.openxmlformats.org/drawingml/2006/table">
            <a:tbl>
              <a:tblPr/>
              <a:tblGrid>
                <a:gridCol w="347004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note            switch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notes          switche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lunch          baby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lunches      babie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tory           </a:t>
                      </a:r>
                      <a:r>
                        <a:rPr b="0" lang="en-US" sz="24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crumb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tories        </a:t>
                      </a:r>
                      <a:r>
                        <a:rPr b="0" lang="en-US" sz="24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supplie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tune            </a:t>
                      </a:r>
                      <a:r>
                        <a:rPr b="0" lang="en-US" sz="24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centurie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tune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9" name=""/>
          <p:cNvGraphicFramePr/>
          <p:nvPr/>
        </p:nvGraphicFramePr>
        <p:xfrm>
          <a:off x="4876920" y="2133720"/>
          <a:ext cx="2819160" cy="4190760"/>
        </p:xfrm>
        <a:graphic>
          <a:graphicData uri="http://schemas.openxmlformats.org/drawingml/2006/table">
            <a:tbl>
              <a:tblPr/>
              <a:tblGrid>
                <a:gridCol w="2819160"/>
              </a:tblGrid>
              <a:tr h="419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Word Wall Word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crash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kate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aw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eating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pick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Animals Helping Animals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aily Fix-I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2085840"/>
            <a:ext cx="77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9000"/>
          </a:bodyPr>
          <a:p>
            <a:pPr marL="4813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eff"/>
              </a:solidFill>
              <a:latin typeface="Arial"/>
            </a:endParaRPr>
          </a:p>
          <a:p>
            <a:pPr marL="481320" indent="-481320">
              <a:spcBef>
                <a:spcPts val="11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1ceff"/>
                </a:solidFill>
                <a:latin typeface="Arial"/>
              </a:rPr>
              <a:t>the donkey blue the hurn.</a:t>
            </a:r>
            <a:endParaRPr b="0" lang="en-US" sz="4800" spc="-1" strike="noStrike">
              <a:solidFill>
                <a:srgbClr val="c1ceff"/>
              </a:solidFill>
              <a:latin typeface="Arial"/>
            </a:endParaRPr>
          </a:p>
          <a:p>
            <a:pPr marL="481320" indent="-481320">
              <a:spcBef>
                <a:spcPts val="11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9100"/>
                </a:solidFill>
                <a:latin typeface="Arial"/>
              </a:rPr>
              <a:t>The donkey blew the horn.</a:t>
            </a:r>
            <a:endParaRPr b="0" lang="en-US" sz="4800" spc="-1" strike="noStrike">
              <a:solidFill>
                <a:srgbClr val="c1ceff"/>
              </a:solidFill>
              <a:latin typeface="Arial"/>
            </a:endParaRPr>
          </a:p>
          <a:p>
            <a:pPr marL="481320" indent="-481320">
              <a:spcBef>
                <a:spcPts val="11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1ceff"/>
                </a:solidFill>
                <a:latin typeface="Arial"/>
              </a:rPr>
              <a:t>the dog stated to hum a tun.</a:t>
            </a:r>
            <a:endParaRPr b="0" lang="en-US" sz="4800" spc="-1" strike="noStrike">
              <a:solidFill>
                <a:srgbClr val="c1ceff"/>
              </a:solidFill>
              <a:latin typeface="Arial"/>
            </a:endParaRPr>
          </a:p>
          <a:p>
            <a:pPr marL="481320" indent="-481320">
              <a:spcBef>
                <a:spcPts val="11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9100"/>
                </a:solidFill>
                <a:latin typeface="Arial"/>
              </a:rPr>
              <a:t>The dog started to hum a tune.</a:t>
            </a:r>
            <a:endParaRPr b="0" lang="en-US" sz="4800" spc="-1" strike="noStrike">
              <a:solidFill>
                <a:srgbClr val="c1ceff"/>
              </a:solidFill>
              <a:latin typeface="Arial"/>
            </a:endParaRPr>
          </a:p>
          <a:p>
            <a:pPr marL="481320" indent="-48132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1" dur="indefinite" restart="never" nodeType="tmRoot">
          <p:childTnLst>
            <p:seq>
              <p:cTn id="992" dur="indefinite" nodeType="mainSeq">
                <p:childTnLst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lural Nouns That Change Spelling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A plural noun names more than one person, place, or thing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Some nouns change to a different word when they are made plural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3" dur="indefinite" restart="never" nodeType="tmRoot">
          <p:childTnLst>
            <p:seq>
              <p:cTn id="1014" dur="indefinite" nodeType="mainSeq">
                <p:childTnLst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lural Nouns That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hange Spelling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2743200" y="2514600"/>
          <a:ext cx="4129200" cy="2697120"/>
        </p:xfrm>
        <a:graphic>
          <a:graphicData uri="http://schemas.openxmlformats.org/drawingml/2006/table">
            <a:tbl>
              <a:tblPr/>
              <a:tblGrid>
                <a:gridCol w="2065320"/>
                <a:gridCol w="20638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ular</a:t>
                      </a:r>
                      <a:endParaRPr b="0" lang="en-US" sz="36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ral</a:t>
                      </a:r>
                      <a:endParaRPr b="0" lang="en-US" sz="36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20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artnership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art – ner – ship 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artnership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happens when two or more people become partners and join together to share something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My best friend and I have a real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artnership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—we do everything together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artnership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of those people has lasted for many years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lural Nouns That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hange Spelling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2743200" y="2514600"/>
          <a:ext cx="4129200" cy="2697120"/>
        </p:xfrm>
        <a:graphic>
          <a:graphicData uri="http://schemas.openxmlformats.org/drawingml/2006/table">
            <a:tbl>
              <a:tblPr/>
              <a:tblGrid>
                <a:gridCol w="2065320"/>
                <a:gridCol w="20638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ular</a:t>
                      </a:r>
                      <a:endParaRPr b="0" lang="en-US" sz="36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ral</a:t>
                      </a:r>
                      <a:endParaRPr b="0" lang="en-US" sz="36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20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man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lural Nouns That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hange Spelling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91" name=""/>
          <p:cNvGraphicFramePr/>
          <p:nvPr/>
        </p:nvGraphicFramePr>
        <p:xfrm>
          <a:off x="2743200" y="2514600"/>
          <a:ext cx="4129200" cy="2697120"/>
        </p:xfrm>
        <a:graphic>
          <a:graphicData uri="http://schemas.openxmlformats.org/drawingml/2006/table">
            <a:tbl>
              <a:tblPr/>
              <a:tblGrid>
                <a:gridCol w="2065320"/>
                <a:gridCol w="20638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ular</a:t>
                      </a:r>
                      <a:endParaRPr b="0" lang="en-US" sz="36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ral</a:t>
                      </a:r>
                      <a:endParaRPr b="0" lang="en-US" sz="36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20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man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men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lural Nouns That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hange Spelling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2743200" y="2514600"/>
          <a:ext cx="4129200" cy="2697120"/>
        </p:xfrm>
        <a:graphic>
          <a:graphicData uri="http://schemas.openxmlformats.org/drawingml/2006/table">
            <a:tbl>
              <a:tblPr/>
              <a:tblGrid>
                <a:gridCol w="2065320"/>
                <a:gridCol w="20638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ular</a:t>
                      </a:r>
                      <a:endParaRPr b="0" lang="en-US" sz="36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ral</a:t>
                      </a:r>
                      <a:endParaRPr b="0" lang="en-US" sz="36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20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man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tooth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men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lural Nouns That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hange Spelling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2743200" y="2514600"/>
          <a:ext cx="4129200" cy="2697120"/>
        </p:xfrm>
        <a:graphic>
          <a:graphicData uri="http://schemas.openxmlformats.org/drawingml/2006/table">
            <a:tbl>
              <a:tblPr/>
              <a:tblGrid>
                <a:gridCol w="2065320"/>
                <a:gridCol w="20638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ular</a:t>
                      </a:r>
                      <a:endParaRPr b="0" lang="en-US" sz="36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ral</a:t>
                      </a:r>
                      <a:endParaRPr b="0" lang="en-US" sz="36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20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man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tooth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men 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teeth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lural Nouns That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hange Spelling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97" name=""/>
          <p:cNvGraphicFramePr/>
          <p:nvPr/>
        </p:nvGraphicFramePr>
        <p:xfrm>
          <a:off x="2743200" y="2514600"/>
          <a:ext cx="4129200" cy="2697120"/>
        </p:xfrm>
        <a:graphic>
          <a:graphicData uri="http://schemas.openxmlformats.org/drawingml/2006/table">
            <a:tbl>
              <a:tblPr/>
              <a:tblGrid>
                <a:gridCol w="2065320"/>
                <a:gridCol w="20638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ular</a:t>
                      </a:r>
                      <a:endParaRPr b="0" lang="en-US" sz="36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ral</a:t>
                      </a:r>
                      <a:endParaRPr b="0" lang="en-US" sz="36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20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man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tooth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mouse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men 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teeth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lural Nouns That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hange Spelling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2743200" y="2514600"/>
          <a:ext cx="4129200" cy="2697120"/>
        </p:xfrm>
        <a:graphic>
          <a:graphicData uri="http://schemas.openxmlformats.org/drawingml/2006/table">
            <a:tbl>
              <a:tblPr/>
              <a:tblGrid>
                <a:gridCol w="2065320"/>
                <a:gridCol w="20638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ular</a:t>
                      </a:r>
                      <a:endParaRPr b="0" lang="en-US" sz="36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ral</a:t>
                      </a:r>
                      <a:endParaRPr b="0" lang="en-US" sz="36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20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man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tooth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mouse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men 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teeth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mice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remen Town Musicians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hursday 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Journal Topic</a:t>
                      </a:r>
                      <a:endParaRPr b="0" lang="en-US" sz="36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  </a:t>
                      </a:r>
                      <a:r>
                        <a:rPr b="1" i="1" lang="en-US" sz="32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List ways animals help each other.</a:t>
                      </a: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02" name="Picture 17" descr="1558586946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381880" y="5867280"/>
            <a:ext cx="493920" cy="6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remen Town Musicians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Friday 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1676520" y="2057400"/>
          <a:ext cx="6095880" cy="42973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430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Morning Warm-Up</a:t>
                      </a:r>
                      <a:endParaRPr b="0" lang="en-US" sz="36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This week we read about animals helping each other to live and enjoy life.  Some formed a singing group, some cheered up unhappy friends, and some kept each other safe and clean.  Why is it often better to work with others?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01800" y="708120"/>
            <a:ext cx="7354800" cy="109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oday we will learn about: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523520" y="2285640"/>
            <a:ext cx="656604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plurals, and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high-frequency words,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vocabulary words, and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amazing words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ce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3" dur="indefinite" restart="never" nodeType="tmRoot">
          <p:childTnLst>
            <p:seq>
              <p:cTn id="1024" dur="indefinite" nodeType="mainSeq">
                <p:childTnLst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urals –s, -es, -i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2085840"/>
            <a:ext cx="7786800" cy="477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The ladies ate grapes and jellies.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adies</a:t>
            </a: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 ate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rapes</a:t>
            </a: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jellies</a:t>
            </a: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I put away the dishes, plates, and cups.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I put away the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ishes</a:t>
            </a: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lates</a:t>
            </a: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, and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ups</a:t>
            </a: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He gave the babies their lunches and drinks.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He gave the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abies</a:t>
            </a: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 their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unches</a:t>
            </a: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rinks</a:t>
            </a: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The bunnies ran through the bushes.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unnies</a:t>
            </a: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 ran through the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ushes</a:t>
            </a: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1" dur="indefinite" restart="never" nodeType="tmRoot">
          <p:childTnLst>
            <p:seq>
              <p:cTn id="1042" dur="indefinite" nodeType="mainSeq">
                <p:childTnLst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o – lu - tion 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olution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is the process of solving a problem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olution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to that problem took a long time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Mom came up with th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olution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by promising to drive me to the game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igh-Frequency Word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2085840"/>
            <a:ext cx="7786800" cy="477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This is another word for nice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This is the opposite of sold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These are men, women, boys, and girls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This is another word for afraid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This is something you read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This means about the same as well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This is another word for most likely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5" dur="indefinite" restart="never" nodeType="tmRoot">
          <p:childTnLst>
            <p:seq>
              <p:cTn id="1076" dur="indefinite" nodeType="mainSeq">
                <p:childTnLst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aily Fix-I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2085840"/>
            <a:ext cx="77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91120" indent="-591120">
              <a:spcBef>
                <a:spcPts val="11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1ceff"/>
                </a:solidFill>
                <a:latin typeface="Arial"/>
              </a:rPr>
              <a:t>donkey humed with Dog</a:t>
            </a:r>
            <a:endParaRPr b="0" lang="en-US" sz="4800" spc="-1" strike="noStrike">
              <a:solidFill>
                <a:srgbClr val="c1ceff"/>
              </a:solidFill>
              <a:latin typeface="Arial"/>
            </a:endParaRPr>
          </a:p>
          <a:p>
            <a:pPr marL="591120" indent="-591120">
              <a:spcBef>
                <a:spcPts val="1199"/>
              </a:spcBef>
              <a:buClr>
                <a:srgbClr val="cf0e3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9100"/>
                </a:solidFill>
                <a:latin typeface="Arial"/>
              </a:rPr>
              <a:t>Donkey hummed with Dog.</a:t>
            </a:r>
            <a:endParaRPr b="0" lang="en-US" sz="4800" spc="-1" strike="noStrike">
              <a:solidFill>
                <a:srgbClr val="c1ceff"/>
              </a:solidFill>
              <a:latin typeface="Arial"/>
            </a:endParaRPr>
          </a:p>
          <a:p>
            <a:pPr marL="591120" indent="-591120">
              <a:spcBef>
                <a:spcPts val="11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1ceff"/>
                </a:solidFill>
                <a:latin typeface="Arial"/>
              </a:rPr>
              <a:t>what fun they had. </a:t>
            </a:r>
            <a:endParaRPr b="0" lang="en-US" sz="4800" spc="-1" strike="noStrike">
              <a:solidFill>
                <a:srgbClr val="c1ceff"/>
              </a:solidFill>
              <a:latin typeface="Arial"/>
            </a:endParaRPr>
          </a:p>
          <a:p>
            <a:pPr marL="591120" indent="-591120">
              <a:spcBef>
                <a:spcPts val="11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9100"/>
                </a:solidFill>
                <a:latin typeface="Arial"/>
              </a:rPr>
              <a:t>What fun they had!</a:t>
            </a:r>
            <a:endParaRPr b="0" lang="en-US" sz="48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5" dur="indefinite" restart="never" nodeType="tmRoot">
          <p:childTnLst>
            <p:seq>
              <p:cTn id="1106" dur="indefinite" nodeType="mainSeq">
                <p:childTnLst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remen Town Musician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1219320" y="2133720"/>
          <a:ext cx="3470040" cy="4114800"/>
        </p:xfrm>
        <a:graphic>
          <a:graphicData uri="http://schemas.openxmlformats.org/drawingml/2006/table">
            <a:tbl>
              <a:tblPr/>
              <a:tblGrid>
                <a:gridCol w="347004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note            switch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notes          switche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lunch          baby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lunches      babie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tory           </a:t>
                      </a:r>
                      <a:r>
                        <a:rPr b="0" lang="en-US" sz="24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crumb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tories        </a:t>
                      </a:r>
                      <a:r>
                        <a:rPr b="0" lang="en-US" sz="24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supplie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tune            </a:t>
                      </a:r>
                      <a:r>
                        <a:rPr b="0" lang="en-US" sz="24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centurie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tune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15" name=""/>
          <p:cNvGraphicFramePr/>
          <p:nvPr/>
        </p:nvGraphicFramePr>
        <p:xfrm>
          <a:off x="4876920" y="2133720"/>
          <a:ext cx="2819160" cy="4190760"/>
        </p:xfrm>
        <a:graphic>
          <a:graphicData uri="http://schemas.openxmlformats.org/drawingml/2006/table">
            <a:tbl>
              <a:tblPr/>
              <a:tblGrid>
                <a:gridCol w="2819160"/>
              </a:tblGrid>
              <a:tr h="419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Word Wall Word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crash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kate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aw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eating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pick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remen Town Musician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17" name=""/>
          <p:cNvGraphicFramePr/>
          <p:nvPr/>
        </p:nvGraphicFramePr>
        <p:xfrm>
          <a:off x="838080" y="2057400"/>
          <a:ext cx="3353040" cy="4191120"/>
        </p:xfrm>
        <a:graphic>
          <a:graphicData uri="http://schemas.openxmlformats.org/drawingml/2006/table">
            <a:tbl>
              <a:tblPr/>
              <a:tblGrid>
                <a:gridCol w="3353040"/>
              </a:tblGrid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Vocabulary Word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mill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musician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excitement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robber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monster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18" name=""/>
          <p:cNvGraphicFramePr/>
          <p:nvPr/>
        </p:nvGraphicFramePr>
        <p:xfrm>
          <a:off x="4495680" y="2057400"/>
          <a:ext cx="3927600" cy="4191120"/>
        </p:xfrm>
        <a:graphic>
          <a:graphicData uri="http://schemas.openxmlformats.org/drawingml/2006/table">
            <a:tbl>
              <a:tblPr/>
              <a:tblGrid>
                <a:gridCol w="3927600"/>
              </a:tblGrid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Amazing Word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partnership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olution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urvival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miserable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truggle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depend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familiar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insist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remen Town Musician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2895480" y="2133720"/>
          <a:ext cx="3470400" cy="4371840"/>
        </p:xfrm>
        <a:graphic>
          <a:graphicData uri="http://schemas.openxmlformats.org/drawingml/2006/table">
            <a:tbl>
              <a:tblPr/>
              <a:tblGrid>
                <a:gridCol w="3470400"/>
              </a:tblGrid>
              <a:tr h="437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people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ign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ought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cared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probably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hall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pleasant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9144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view Gam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Vocabulary &amp; Amazing Words: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Jigword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Spelling Words: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Quia Games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Spelling City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High Frequency Words: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Hot Potatoes (fill-in-the-blank)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828720"/>
            <a:ext cx="7786800" cy="102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Bremen Town Musicia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1ceff"/>
                </a:solidFill>
                <a:latin typeface="Arial"/>
              </a:rPr>
              <a:t>Tests</a:t>
            </a:r>
            <a:endParaRPr b="0" lang="en-US" sz="4000" spc="-1" strike="noStrike">
              <a:solidFill>
                <a:srgbClr val="c1ce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1ceff"/>
                </a:solidFill>
                <a:latin typeface="Arial"/>
              </a:rPr>
              <a:t>Story Tests:</a:t>
            </a:r>
            <a:endParaRPr b="0" lang="en-US" sz="4000" spc="-1" strike="noStrike">
              <a:solidFill>
                <a:srgbClr val="c1ce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f91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Reading Street for Students:  Reading Tests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f91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AR Test:  Bremen Town Musicians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Other Reading Quiz # 904612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1ce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1ce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remen Town Musicians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Friday 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26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Journal Topic</a:t>
                      </a:r>
                      <a:endParaRPr b="0" lang="en-US" sz="36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  </a:t>
                      </a:r>
                      <a:r>
                        <a:rPr b="1" i="1" lang="en-US" sz="32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Write a story with a problem and solution.</a:t>
                      </a: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27" name="Picture 17" descr="1558586946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305920" y="5867280"/>
            <a:ext cx="493560" cy="6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remen Town Musicians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elated Link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1219320" y="2209680"/>
          <a:ext cx="6476760" cy="4334040"/>
        </p:xfrm>
        <a:graphic>
          <a:graphicData uri="http://schemas.openxmlformats.org/drawingml/2006/table">
            <a:tbl>
              <a:tblPr/>
              <a:tblGrid>
                <a:gridCol w="6476760"/>
              </a:tblGrid>
              <a:tr h="434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Match animal baby to parent.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Farm Animals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Animal Sounds- Who Said That?</a:t>
                      </a:r>
                      <a:r>
                        <a:rPr b="0" lang="en-US" sz="16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They're, Their, and There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rain Pop</a:t>
                      </a:r>
                      <a:r>
                        <a:rPr b="0" lang="en-US" sz="16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The Bremen Town Musicians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Online Story</a:t>
                      </a:r>
                      <a:r>
                        <a:rPr b="0" lang="en-US" sz="16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Farm Animal Online Book</a:t>
                      </a:r>
                      <a:r>
                        <a:rPr b="0" lang="en-US" sz="16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Farm Animal Brain Tease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United Streaming Video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Farm Animals: A First Look</a:t>
                      </a:r>
                      <a:r>
                        <a:rPr b="0" lang="en-US" sz="16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Homophones</a:t>
                      </a:r>
                      <a:endParaRPr b="0" lang="en-US" sz="16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Video Clip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etween the Lions</a:t>
                      </a:r>
                      <a:r>
                        <a:rPr b="0" lang="en-US" sz="16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The Plural Girls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FunBrain</a:t>
                      </a:r>
                      <a:r>
                        <a:rPr b="0" lang="en-US" sz="16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30" name="Picture 9" descr="1558586946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305920" y="5867280"/>
            <a:ext cx="493560" cy="6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urviva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ur – vi - val 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urvival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means the act of living on or of surviving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urvival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of the people in that fire depended on the firefighters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urvival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in a harsh place like the desert is difficult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urals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–s, -es, -i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lagged      -      skating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Both these words have a base word, an ending, and a spelling change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Today you’ll learn about endings for plurals, words that mean “more than one.”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urals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–s, -es, -i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tars      -      wishes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To make words mean “more than one,” the ending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–s</a:t>
            </a: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 or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–es</a:t>
            </a: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 is added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The ending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–s</a:t>
            </a: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 is added to most words;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-es</a:t>
            </a: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 is added to words that end in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h, ch, tch, s, ss, </a:t>
            </a: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or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x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urals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–s, -es, -i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ity      -      cities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If a word ends in a consonant followed by a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, you will change th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 to an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 and add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-es</a:t>
            </a: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urals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–s, -es, -i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752480" y="2085840"/>
            <a:ext cx="2749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patches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dishes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boxes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pennies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farms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ranches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buddies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glasses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05160" y="2085840"/>
            <a:ext cx="33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parties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lunches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messes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foxes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skirts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candies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sashes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bodies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ponies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868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urals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–s, -es, -ies</a:t>
            </a:r>
            <a:br>
              <a:rPr sz="4400"/>
            </a:br>
            <a:r>
              <a:rPr b="1" i="1" lang="en-US" sz="2800" spc="-1" strike="noStrike">
                <a:solidFill>
                  <a:srgbClr val="c1ceff"/>
                </a:solidFill>
                <a:latin typeface="Arial"/>
              </a:rPr>
              <a:t>baby, expert, bench, scratch, lady, basket, order, buddy, kiss, dancer, circus, cand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295280" y="2666880"/>
          <a:ext cx="6415200" cy="3654720"/>
        </p:xfrm>
        <a:graphic>
          <a:graphicData uri="http://schemas.openxmlformats.org/drawingml/2006/table">
            <a:tbl>
              <a:tblPr/>
              <a:tblGrid>
                <a:gridCol w="2138400"/>
                <a:gridCol w="2138400"/>
                <a:gridCol w="21384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04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868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urals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–s, -es, -ies</a:t>
            </a:r>
            <a:br>
              <a:rPr sz="4400"/>
            </a:br>
            <a:r>
              <a:rPr b="1" i="1" lang="en-US" sz="2800" spc="-1" strike="noStrike">
                <a:solidFill>
                  <a:srgbClr val="c1ceff"/>
                </a:solidFill>
                <a:latin typeface="Arial"/>
              </a:rPr>
              <a:t>baby, expert, bench, scratch, lady, basket, order, buddy, kiss, dancer, circus, cand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1295280" y="2666880"/>
          <a:ext cx="6415200" cy="3654720"/>
        </p:xfrm>
        <a:graphic>
          <a:graphicData uri="http://schemas.openxmlformats.org/drawingml/2006/table">
            <a:tbl>
              <a:tblPr/>
              <a:tblGrid>
                <a:gridCol w="2138400"/>
                <a:gridCol w="2138400"/>
                <a:gridCol w="21384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04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ab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2120" y="21337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19191"/>
                </a:solidFill>
                <a:latin typeface="Arial"/>
              </a:rPr>
              <a:t>Small Group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cf0e30"/>
                </a:solidFill>
                <a:uFillTx/>
                <a:latin typeface="Arial"/>
                <a:hlinkClick r:id="rId1"/>
              </a:rPr>
              <a:t>Timer</a:t>
            </a:r>
            <a:endParaRPr b="0" lang="en-US" sz="54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868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urals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–s, -es, -ies</a:t>
            </a:r>
            <a:br>
              <a:rPr sz="4400"/>
            </a:br>
            <a:r>
              <a:rPr b="1" i="1" lang="en-US" sz="2800" spc="-1" strike="noStrike">
                <a:solidFill>
                  <a:srgbClr val="c1ceff"/>
                </a:solidFill>
                <a:latin typeface="Arial"/>
              </a:rPr>
              <a:t>baby, expert, bench, scratch, lady, basket, order, buddy, kiss, dancer, circus, cand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295280" y="2666880"/>
          <a:ext cx="6415200" cy="3654720"/>
        </p:xfrm>
        <a:graphic>
          <a:graphicData uri="http://schemas.openxmlformats.org/drawingml/2006/table">
            <a:tbl>
              <a:tblPr/>
              <a:tblGrid>
                <a:gridCol w="2138400"/>
                <a:gridCol w="2138400"/>
                <a:gridCol w="21384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04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expert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ab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868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urals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–s, -es, -ies</a:t>
            </a:r>
            <a:br>
              <a:rPr sz="4400"/>
            </a:br>
            <a:r>
              <a:rPr b="1" i="1" lang="en-US" sz="2800" spc="-1" strike="noStrike">
                <a:solidFill>
                  <a:srgbClr val="c1ceff"/>
                </a:solidFill>
                <a:latin typeface="Arial"/>
              </a:rPr>
              <a:t>baby, expert, bench, scratch, lady, basket, order, buddy, kiss, dancer, circus, cand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295280" y="2666880"/>
          <a:ext cx="6415200" cy="3654720"/>
        </p:xfrm>
        <a:graphic>
          <a:graphicData uri="http://schemas.openxmlformats.org/drawingml/2006/table">
            <a:tbl>
              <a:tblPr/>
              <a:tblGrid>
                <a:gridCol w="2138400"/>
                <a:gridCol w="2138400"/>
                <a:gridCol w="21384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04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expert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ench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ab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868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urals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–s, -es, -ies</a:t>
            </a:r>
            <a:br>
              <a:rPr sz="4400"/>
            </a:br>
            <a:r>
              <a:rPr b="1" i="1" lang="en-US" sz="2800" spc="-1" strike="noStrike">
                <a:solidFill>
                  <a:srgbClr val="c1ceff"/>
                </a:solidFill>
                <a:latin typeface="Arial"/>
              </a:rPr>
              <a:t>baby, expert, bench, scratch, lady, basket, order, buddy, kiss, dancer, circus, cand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295280" y="2666880"/>
          <a:ext cx="6415200" cy="3654720"/>
        </p:xfrm>
        <a:graphic>
          <a:graphicData uri="http://schemas.openxmlformats.org/drawingml/2006/table">
            <a:tbl>
              <a:tblPr/>
              <a:tblGrid>
                <a:gridCol w="2138400"/>
                <a:gridCol w="2138400"/>
                <a:gridCol w="21384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04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expert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ench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cratch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ab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868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urals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–s, -es, -ies</a:t>
            </a:r>
            <a:br>
              <a:rPr sz="4400"/>
            </a:br>
            <a:r>
              <a:rPr b="1" i="1" lang="en-US" sz="2800" spc="-1" strike="noStrike">
                <a:solidFill>
                  <a:srgbClr val="c1ceff"/>
                </a:solidFill>
                <a:latin typeface="Arial"/>
              </a:rPr>
              <a:t>baby, expert, bench, scratch, lady, basket, order, buddy, kiss, dancer, circus, cand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1295280" y="2666880"/>
          <a:ext cx="6415200" cy="3654720"/>
        </p:xfrm>
        <a:graphic>
          <a:graphicData uri="http://schemas.openxmlformats.org/drawingml/2006/table">
            <a:tbl>
              <a:tblPr/>
              <a:tblGrid>
                <a:gridCol w="2138400"/>
                <a:gridCol w="2138400"/>
                <a:gridCol w="21384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04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expert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ench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cratch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ab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lad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868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urals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–s, -es, -ies</a:t>
            </a:r>
            <a:br>
              <a:rPr sz="4400"/>
            </a:br>
            <a:r>
              <a:rPr b="1" i="1" lang="en-US" sz="2800" spc="-1" strike="noStrike">
                <a:solidFill>
                  <a:srgbClr val="c1ceff"/>
                </a:solidFill>
                <a:latin typeface="Arial"/>
              </a:rPr>
              <a:t>baby, expert, bench, scratch, lady, basket, order, buddy, kiss, dancer, circus, cand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295280" y="2666880"/>
          <a:ext cx="6415200" cy="3654720"/>
        </p:xfrm>
        <a:graphic>
          <a:graphicData uri="http://schemas.openxmlformats.org/drawingml/2006/table">
            <a:tbl>
              <a:tblPr/>
              <a:tblGrid>
                <a:gridCol w="2138400"/>
                <a:gridCol w="2138400"/>
                <a:gridCol w="21384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04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expert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asket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ench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cratch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ab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lad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868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urals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–s, -es, -ies</a:t>
            </a:r>
            <a:br>
              <a:rPr sz="4400"/>
            </a:br>
            <a:r>
              <a:rPr b="1" i="1" lang="en-US" sz="2800" spc="-1" strike="noStrike">
                <a:solidFill>
                  <a:srgbClr val="c1ceff"/>
                </a:solidFill>
                <a:latin typeface="Arial"/>
              </a:rPr>
              <a:t>baby, expert, bench, scratch, lady, basket, order, buddy, kiss, dancer, circus, cand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295280" y="2666880"/>
          <a:ext cx="6415200" cy="3654720"/>
        </p:xfrm>
        <a:graphic>
          <a:graphicData uri="http://schemas.openxmlformats.org/drawingml/2006/table">
            <a:tbl>
              <a:tblPr/>
              <a:tblGrid>
                <a:gridCol w="2138400"/>
                <a:gridCol w="2138400"/>
                <a:gridCol w="21384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04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expert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asket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order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ench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cratch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ab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lad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868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urals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–s, -es, -ies</a:t>
            </a:r>
            <a:br>
              <a:rPr sz="4400"/>
            </a:br>
            <a:r>
              <a:rPr b="1" i="1" lang="en-US" sz="2800" spc="-1" strike="noStrike">
                <a:solidFill>
                  <a:srgbClr val="c1ceff"/>
                </a:solidFill>
                <a:latin typeface="Arial"/>
              </a:rPr>
              <a:t>baby, expert, bench, scratch, lady, basket, order, buddy, kiss, dancer, circus, cand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295280" y="2666880"/>
          <a:ext cx="6415200" cy="3654720"/>
        </p:xfrm>
        <a:graphic>
          <a:graphicData uri="http://schemas.openxmlformats.org/drawingml/2006/table">
            <a:tbl>
              <a:tblPr/>
              <a:tblGrid>
                <a:gridCol w="2138400"/>
                <a:gridCol w="2138400"/>
                <a:gridCol w="21384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04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expert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asket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order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ench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cratch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ab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lad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udd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868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urals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–s, -es, -ies</a:t>
            </a:r>
            <a:br>
              <a:rPr sz="4400"/>
            </a:br>
            <a:r>
              <a:rPr b="1" i="1" lang="en-US" sz="2800" spc="-1" strike="noStrike">
                <a:solidFill>
                  <a:srgbClr val="c1ceff"/>
                </a:solidFill>
                <a:latin typeface="Arial"/>
              </a:rPr>
              <a:t>baby, expert, bench, scratch, lady, basket, order, buddy, kiss, dancer, circus, cand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295280" y="2666880"/>
          <a:ext cx="6415200" cy="3654720"/>
        </p:xfrm>
        <a:graphic>
          <a:graphicData uri="http://schemas.openxmlformats.org/drawingml/2006/table">
            <a:tbl>
              <a:tblPr/>
              <a:tblGrid>
                <a:gridCol w="2138400"/>
                <a:gridCol w="2138400"/>
                <a:gridCol w="21384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04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expert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asket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order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ench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cratch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kiss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ab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lad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udd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868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urals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–s, -es, -ies</a:t>
            </a:r>
            <a:br>
              <a:rPr sz="4400"/>
            </a:br>
            <a:r>
              <a:rPr b="1" i="1" lang="en-US" sz="2800" spc="-1" strike="noStrike">
                <a:solidFill>
                  <a:srgbClr val="c1ceff"/>
                </a:solidFill>
                <a:latin typeface="Arial"/>
              </a:rPr>
              <a:t>baby, expert, bench, scratch, lady, basket, order, buddy, kiss, dancer, circus, cand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1295280" y="2666880"/>
          <a:ext cx="6415200" cy="3654720"/>
        </p:xfrm>
        <a:graphic>
          <a:graphicData uri="http://schemas.openxmlformats.org/drawingml/2006/table">
            <a:tbl>
              <a:tblPr/>
              <a:tblGrid>
                <a:gridCol w="2138400"/>
                <a:gridCol w="2138400"/>
                <a:gridCol w="21384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04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expert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asket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order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dancer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ench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cratch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kiss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ab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lad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udd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868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urals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–s, -es, -ies</a:t>
            </a:r>
            <a:br>
              <a:rPr sz="4400"/>
            </a:br>
            <a:r>
              <a:rPr b="1" i="1" lang="en-US" sz="2800" spc="-1" strike="noStrike">
                <a:solidFill>
                  <a:srgbClr val="c1ceff"/>
                </a:solidFill>
                <a:latin typeface="Arial"/>
              </a:rPr>
              <a:t>baby, expert, bench, scratch, lady, basket, order, buddy, kiss, dancer, circus, cand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295280" y="2666880"/>
          <a:ext cx="6415200" cy="3654720"/>
        </p:xfrm>
        <a:graphic>
          <a:graphicData uri="http://schemas.openxmlformats.org/drawingml/2006/table">
            <a:tbl>
              <a:tblPr/>
              <a:tblGrid>
                <a:gridCol w="2138400"/>
                <a:gridCol w="2138400"/>
                <a:gridCol w="21384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04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expert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asket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order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dancer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ench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cratch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kiss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circus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ab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lad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udd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remen Town Musician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838080" y="2057400"/>
          <a:ext cx="3353040" cy="4191120"/>
        </p:xfrm>
        <a:graphic>
          <a:graphicData uri="http://schemas.openxmlformats.org/drawingml/2006/table">
            <a:tbl>
              <a:tblPr/>
              <a:tblGrid>
                <a:gridCol w="3353040"/>
              </a:tblGrid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Vocabulary Word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mill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musician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excitement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robber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monster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4495680" y="2057400"/>
          <a:ext cx="3927600" cy="4191120"/>
        </p:xfrm>
        <a:graphic>
          <a:graphicData uri="http://schemas.openxmlformats.org/drawingml/2006/table">
            <a:tbl>
              <a:tblPr/>
              <a:tblGrid>
                <a:gridCol w="3927600"/>
              </a:tblGrid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Amazing Word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partnership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olution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urvival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miserable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truggle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depend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familiar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insist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868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urals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–s, -es, -ies</a:t>
            </a:r>
            <a:br>
              <a:rPr sz="4400"/>
            </a:br>
            <a:r>
              <a:rPr b="1" i="1" lang="en-US" sz="2800" spc="-1" strike="noStrike">
                <a:solidFill>
                  <a:srgbClr val="c1ceff"/>
                </a:solidFill>
                <a:latin typeface="Arial"/>
              </a:rPr>
              <a:t>baby, expert, bench, scratch, lady, basket, order, buddy, kiss, dancer, circus, cand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1295280" y="2666880"/>
          <a:ext cx="6415200" cy="3654720"/>
        </p:xfrm>
        <a:graphic>
          <a:graphicData uri="http://schemas.openxmlformats.org/drawingml/2006/table">
            <a:tbl>
              <a:tblPr/>
              <a:tblGrid>
                <a:gridCol w="2138400"/>
                <a:gridCol w="2138400"/>
                <a:gridCol w="21384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04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expert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asket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order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dancer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ench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cratch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kiss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circus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ab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lad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udd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cand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urals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–s, -es, -i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752480" y="2085840"/>
            <a:ext cx="2749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mixes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corners 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germs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hitches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stories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roses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dishes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perches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105160" y="2085840"/>
            <a:ext cx="33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centers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lilies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armies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gerbils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puppies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buses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cents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285640"/>
            <a:ext cx="784872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et Talk About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orking Together!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uthor’s Purpos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2085840"/>
            <a:ext cx="77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An author has a reason for writing.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An author can write to inform or explain something.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An author can write to entertain.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An author can write to describe something.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An author can write to convince the reader to think or act in a certain way.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The Mango Tree</a:t>
            </a: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aily Fix-I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2085840"/>
            <a:ext cx="77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1ce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cf0e3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ceff"/>
                </a:solidFill>
                <a:latin typeface="Arial"/>
              </a:rPr>
              <a:t>the donkey didnt have any food</a:t>
            </a:r>
            <a:endParaRPr b="0" lang="en-US" sz="4400" spc="-1" strike="noStrike">
              <a:solidFill>
                <a:srgbClr val="c1ce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cf0e3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f9100"/>
                </a:solidFill>
                <a:latin typeface="Arial"/>
              </a:rPr>
              <a:t>The donkey didn’t have any food.</a:t>
            </a:r>
            <a:endParaRPr b="0" lang="en-US" sz="4400" spc="-1" strike="noStrike">
              <a:solidFill>
                <a:srgbClr val="c1ce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cf0e3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ceff"/>
                </a:solidFill>
                <a:latin typeface="Arial"/>
              </a:rPr>
              <a:t>he mised his lunchs</a:t>
            </a:r>
            <a:endParaRPr b="0" lang="en-US" sz="4400" spc="-1" strike="noStrike">
              <a:solidFill>
                <a:srgbClr val="c1ce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f0e3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f9100"/>
                </a:solidFill>
                <a:latin typeface="Arial"/>
              </a:rPr>
              <a:t>He missed his lunches.</a:t>
            </a:r>
            <a:r>
              <a:rPr b="0" lang="en-US" sz="2400" spc="-1" strike="noStrike">
                <a:solidFill>
                  <a:srgbClr val="c1ce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lural Nouns That Change Spelling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2085840"/>
            <a:ext cx="77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f0e3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A singular noun names one person, place, animal, or thing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f0e3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A plural noun names more than one person, place, animal, or thing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f0e3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Some nouns change spelling to name more than one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lural Nouns That Change Spelling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057040" y="2085840"/>
            <a:ext cx="2444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1ceff"/>
                </a:solidFill>
                <a:latin typeface="Arial"/>
              </a:rPr>
              <a:t>man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en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1ceff"/>
                </a:solidFill>
                <a:latin typeface="Arial"/>
              </a:rPr>
              <a:t>leaf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aves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1ceff"/>
                </a:solidFill>
                <a:latin typeface="Arial"/>
              </a:rPr>
              <a:t>tooth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eeth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1ceff"/>
                </a:solidFill>
                <a:latin typeface="Arial"/>
              </a:rPr>
              <a:t>woman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omen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1ceff"/>
                </a:solidFill>
                <a:latin typeface="Arial"/>
              </a:rPr>
              <a:t>wife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ives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0240" y="2133720"/>
            <a:ext cx="3817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1ceff"/>
                </a:solidFill>
                <a:latin typeface="Arial"/>
              </a:rPr>
              <a:t>child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hildren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1ceff"/>
                </a:solidFill>
                <a:latin typeface="Arial"/>
              </a:rPr>
              <a:t>foot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eet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1ceff"/>
                </a:solidFill>
                <a:latin typeface="Arial"/>
              </a:rPr>
              <a:t>mouse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ice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1ceff"/>
                </a:solidFill>
                <a:latin typeface="Arial"/>
              </a:rPr>
              <a:t>goose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geese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1ceff"/>
                </a:solidFill>
                <a:latin typeface="Arial"/>
              </a:rPr>
              <a:t>loaf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oaves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remen Town Musicians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onday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Journal Topic</a:t>
                      </a:r>
                      <a:endParaRPr b="0" lang="en-US" sz="36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Write about why partnerships are important.</a:t>
                      </a:r>
                      <a:r>
                        <a:rPr b="0" lang="en-US" sz="32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8" name="Picture 24" descr="1558586946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305920" y="5867280"/>
            <a:ext cx="493560" cy="6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remen Town Musicians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uesday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600200" y="2209680"/>
          <a:ext cx="6095880" cy="360216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0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Today we will read about some animals traveling to Bremen Town.  We will read about how and why they work together.  When have you worked with others?</a:t>
                      </a:r>
                      <a:endParaRPr b="0" lang="en-US" sz="32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remen Town Musician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2895480" y="2133720"/>
          <a:ext cx="3470400" cy="4371840"/>
        </p:xfrm>
        <a:graphic>
          <a:graphicData uri="http://schemas.openxmlformats.org/drawingml/2006/table">
            <a:tbl>
              <a:tblPr/>
              <a:tblGrid>
                <a:gridCol w="3470400"/>
              </a:tblGrid>
              <a:tr h="437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people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ign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ought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cared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probably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hall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pleasant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remen Town Musicians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uesday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600200" y="2209680"/>
          <a:ext cx="6095880" cy="360216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0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oday</a:t>
                      </a:r>
                      <a:r>
                        <a:rPr b="1" i="1" lang="en-US" sz="32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we will read about some animals traveling to </a:t>
                      </a:r>
                      <a:r>
                        <a:rPr b="1" i="1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remen</a:t>
                      </a:r>
                      <a:r>
                        <a:rPr b="1" i="1" lang="en-US" sz="32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own</a:t>
                      </a:r>
                      <a:r>
                        <a:rPr b="1" i="1" lang="en-US" sz="32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.  </a:t>
                      </a:r>
                      <a:r>
                        <a:rPr b="1" i="1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e</a:t>
                      </a:r>
                      <a:r>
                        <a:rPr b="1" i="1" lang="en-US" sz="32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will read about how and why they work together.  </a:t>
                      </a:r>
                      <a:r>
                        <a:rPr b="1" i="1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hen</a:t>
                      </a:r>
                      <a:r>
                        <a:rPr b="1" i="1" lang="en-US" sz="32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have you worked with others?</a:t>
                      </a:r>
                      <a:endParaRPr b="0" lang="en-US" sz="32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01800" y="708120"/>
            <a:ext cx="7354800" cy="109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oday we will learn about: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523520" y="2209680"/>
            <a:ext cx="656604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f0e3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new amazing words,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f0e3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plurals,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f0e3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author’s purpose,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f0e3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story structure,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f0e3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high-frequency words,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f0e3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vocabulary, and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f0e3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plural nouns that change spelling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01800" y="876240"/>
            <a:ext cx="7354800" cy="97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Bremen Town Musicia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828800" y="3809880"/>
          <a:ext cx="6095880" cy="10670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iserabl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is – er – a – ble  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If you ar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iserable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, you are very, very unhappy.  Something that is miserable causes great unhappiness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Pat was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iserable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about missing school that day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Sally has a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iserable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cold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ruggl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trug – gle   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If you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truggle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, you work hard to do something difficult.  If you have a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truggle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, you have some very hard work to get something done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The swimmer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truggled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hard against the big waves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It is a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truggle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for me to save money from my allowance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epend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e – pend   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When you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epend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on someone or something, you count on or trust that person or thing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I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epend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on my alarm clock to wake me up in the morning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A kitten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epends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on its mother for food and protection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urals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–s, -es, -i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To make most words plural, you will add an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–s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If the word ends in with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h, ch, tch, ss, s, 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or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x,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you will add an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–es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If the word ends with one consonant and a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, change the y to an i and add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–es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urals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–s, -es, -i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124080" y="1980720"/>
            <a:ext cx="3283200" cy="461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buddies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jobs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hours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dishes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supplies 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classmates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messes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lunches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chores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868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urals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–s, -es, -ies</a:t>
            </a:r>
            <a:br>
              <a:rPr sz="4400"/>
            </a:br>
            <a:r>
              <a:rPr b="1" i="1" lang="en-US" sz="2800" spc="-1" strike="noStrike">
                <a:solidFill>
                  <a:srgbClr val="c1ceff"/>
                </a:solidFill>
                <a:latin typeface="Arial"/>
              </a:rPr>
              <a:t>dish, buddy, job, hour, mess, supply, classmate, chore, lunch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1295280" y="2666880"/>
          <a:ext cx="6415200" cy="3654720"/>
        </p:xfrm>
        <a:graphic>
          <a:graphicData uri="http://schemas.openxmlformats.org/drawingml/2006/table">
            <a:tbl>
              <a:tblPr/>
              <a:tblGrid>
                <a:gridCol w="2138400"/>
                <a:gridCol w="2138400"/>
                <a:gridCol w="21384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04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868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urals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–s, -es, -ies</a:t>
            </a:r>
            <a:br>
              <a:rPr sz="4400"/>
            </a:br>
            <a:r>
              <a:rPr b="1" i="1" lang="en-US" sz="2800" spc="-1" strike="noStrike">
                <a:solidFill>
                  <a:srgbClr val="c1ceff"/>
                </a:solidFill>
                <a:latin typeface="Arial"/>
              </a:rPr>
              <a:t>dish, buddy, job, hour, mess, supply, classmate, chore, lunch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1295280" y="2666880"/>
          <a:ext cx="6415200" cy="3654720"/>
        </p:xfrm>
        <a:graphic>
          <a:graphicData uri="http://schemas.openxmlformats.org/drawingml/2006/table">
            <a:tbl>
              <a:tblPr/>
              <a:tblGrid>
                <a:gridCol w="2138400"/>
                <a:gridCol w="2138400"/>
                <a:gridCol w="21384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04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dish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remen Town Musician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219320" y="2133720"/>
          <a:ext cx="3470040" cy="4114800"/>
        </p:xfrm>
        <a:graphic>
          <a:graphicData uri="http://schemas.openxmlformats.org/drawingml/2006/table">
            <a:tbl>
              <a:tblPr/>
              <a:tblGrid>
                <a:gridCol w="347004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note            switch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notes          switche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lunch          baby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lunches      babie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tory           </a:t>
                      </a:r>
                      <a:r>
                        <a:rPr b="0" lang="en-US" sz="24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crumb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tories        </a:t>
                      </a:r>
                      <a:r>
                        <a:rPr b="0" lang="en-US" sz="24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supplie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tune            </a:t>
                      </a:r>
                      <a:r>
                        <a:rPr b="0" lang="en-US" sz="24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centurie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tune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4876920" y="2133720"/>
          <a:ext cx="2819160" cy="4190760"/>
        </p:xfrm>
        <a:graphic>
          <a:graphicData uri="http://schemas.openxmlformats.org/drawingml/2006/table">
            <a:tbl>
              <a:tblPr/>
              <a:tblGrid>
                <a:gridCol w="2819160"/>
              </a:tblGrid>
              <a:tr h="419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Word Wall Word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crash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kate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aw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eating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pick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868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urals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–s, -es, -ies</a:t>
            </a:r>
            <a:br>
              <a:rPr sz="4400"/>
            </a:br>
            <a:r>
              <a:rPr b="1" i="1" lang="en-US" sz="2800" spc="-1" strike="noStrike">
                <a:solidFill>
                  <a:srgbClr val="c1ceff"/>
                </a:solidFill>
                <a:latin typeface="Arial"/>
              </a:rPr>
              <a:t>dish, buddy, job, hour, mess, supply, classmate, chore, lunch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1295280" y="2666880"/>
          <a:ext cx="6415200" cy="3654720"/>
        </p:xfrm>
        <a:graphic>
          <a:graphicData uri="http://schemas.openxmlformats.org/drawingml/2006/table">
            <a:tbl>
              <a:tblPr/>
              <a:tblGrid>
                <a:gridCol w="2138400"/>
                <a:gridCol w="2138400"/>
                <a:gridCol w="21384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04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dish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udd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868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urals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–s, -es, -ies</a:t>
            </a:r>
            <a:br>
              <a:rPr sz="4400"/>
            </a:br>
            <a:r>
              <a:rPr b="1" i="1" lang="en-US" sz="2800" spc="-1" strike="noStrike">
                <a:solidFill>
                  <a:srgbClr val="c1ceff"/>
                </a:solidFill>
                <a:latin typeface="Arial"/>
              </a:rPr>
              <a:t>dish, buddy, job, hour, mess, supply, classmate, chore, lunch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1295280" y="2666880"/>
          <a:ext cx="6415200" cy="3654720"/>
        </p:xfrm>
        <a:graphic>
          <a:graphicData uri="http://schemas.openxmlformats.org/drawingml/2006/table">
            <a:tbl>
              <a:tblPr/>
              <a:tblGrid>
                <a:gridCol w="2138400"/>
                <a:gridCol w="2138400"/>
                <a:gridCol w="21384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04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job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dish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udd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868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urals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–s, -es, -ies</a:t>
            </a:r>
            <a:br>
              <a:rPr sz="4400"/>
            </a:br>
            <a:r>
              <a:rPr b="1" i="1" lang="en-US" sz="2800" spc="-1" strike="noStrike">
                <a:solidFill>
                  <a:srgbClr val="c1ceff"/>
                </a:solidFill>
                <a:latin typeface="Arial"/>
              </a:rPr>
              <a:t>dish, buddy, job, hour, mess, supply, classmate, chore, lunch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1295280" y="2666880"/>
          <a:ext cx="6415200" cy="3654720"/>
        </p:xfrm>
        <a:graphic>
          <a:graphicData uri="http://schemas.openxmlformats.org/drawingml/2006/table">
            <a:tbl>
              <a:tblPr/>
              <a:tblGrid>
                <a:gridCol w="2138400"/>
                <a:gridCol w="2138400"/>
                <a:gridCol w="21384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04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job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hour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dish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udd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868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urals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–s, -es, -ies</a:t>
            </a:r>
            <a:br>
              <a:rPr sz="4400"/>
            </a:br>
            <a:r>
              <a:rPr b="1" i="1" lang="en-US" sz="2800" spc="-1" strike="noStrike">
                <a:solidFill>
                  <a:srgbClr val="c1ceff"/>
                </a:solidFill>
                <a:latin typeface="Arial"/>
              </a:rPr>
              <a:t>dish, buddy, job, hour, mess, supply, classmate, chore, lunch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1295280" y="2666880"/>
          <a:ext cx="6415200" cy="3654720"/>
        </p:xfrm>
        <a:graphic>
          <a:graphicData uri="http://schemas.openxmlformats.org/drawingml/2006/table">
            <a:tbl>
              <a:tblPr/>
              <a:tblGrid>
                <a:gridCol w="2138400"/>
                <a:gridCol w="2138400"/>
                <a:gridCol w="21384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04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job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hour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dish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mess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udd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868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urals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–s, -es, -ies</a:t>
            </a:r>
            <a:br>
              <a:rPr sz="4400"/>
            </a:br>
            <a:r>
              <a:rPr b="1" i="1" lang="en-US" sz="2800" spc="-1" strike="noStrike">
                <a:solidFill>
                  <a:srgbClr val="c1ceff"/>
                </a:solidFill>
                <a:latin typeface="Arial"/>
              </a:rPr>
              <a:t>dish, buddy, job, hour, mess, supply, classmate, chore, lunch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1295280" y="2666880"/>
          <a:ext cx="6415200" cy="3654720"/>
        </p:xfrm>
        <a:graphic>
          <a:graphicData uri="http://schemas.openxmlformats.org/drawingml/2006/table">
            <a:tbl>
              <a:tblPr/>
              <a:tblGrid>
                <a:gridCol w="2138400"/>
                <a:gridCol w="2138400"/>
                <a:gridCol w="21384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04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job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hour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dish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mess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udd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uppl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868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urals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–s, -es, -ies</a:t>
            </a:r>
            <a:br>
              <a:rPr sz="4400"/>
            </a:br>
            <a:r>
              <a:rPr b="1" i="1" lang="en-US" sz="2800" spc="-1" strike="noStrike">
                <a:solidFill>
                  <a:srgbClr val="c1ceff"/>
                </a:solidFill>
                <a:latin typeface="Arial"/>
              </a:rPr>
              <a:t>dish, buddy, job, hour, mess, supply, classmate, chore, lunch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1295280" y="2666880"/>
          <a:ext cx="6415200" cy="3654720"/>
        </p:xfrm>
        <a:graphic>
          <a:graphicData uri="http://schemas.openxmlformats.org/drawingml/2006/table">
            <a:tbl>
              <a:tblPr/>
              <a:tblGrid>
                <a:gridCol w="2138400"/>
                <a:gridCol w="2138400"/>
                <a:gridCol w="21384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04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job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hour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classmat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dish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mess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udd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uppl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868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urals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–s, -es, -ies</a:t>
            </a:r>
            <a:br>
              <a:rPr sz="4400"/>
            </a:br>
            <a:r>
              <a:rPr b="1" i="1" lang="en-US" sz="2800" spc="-1" strike="noStrike">
                <a:solidFill>
                  <a:srgbClr val="c1ceff"/>
                </a:solidFill>
                <a:latin typeface="Arial"/>
              </a:rPr>
              <a:t>dish, buddy, job, hour, mess, supply, classmate, chore, lunch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1295280" y="2666880"/>
          <a:ext cx="6415200" cy="3654720"/>
        </p:xfrm>
        <a:graphic>
          <a:graphicData uri="http://schemas.openxmlformats.org/drawingml/2006/table">
            <a:tbl>
              <a:tblPr/>
              <a:tblGrid>
                <a:gridCol w="2138400"/>
                <a:gridCol w="2138400"/>
                <a:gridCol w="21384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04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job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hour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classmat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chor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dish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mess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udd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uppl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868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urals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–s, -es, -ies</a:t>
            </a:r>
            <a:br>
              <a:rPr sz="4400"/>
            </a:br>
            <a:r>
              <a:rPr b="1" i="1" lang="en-US" sz="2800" spc="-1" strike="noStrike">
                <a:solidFill>
                  <a:srgbClr val="c1ceff"/>
                </a:solidFill>
                <a:latin typeface="Arial"/>
              </a:rPr>
              <a:t>dish, buddy, job, hour, mess, supply, classmate, chore, lunch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1295280" y="2666880"/>
          <a:ext cx="6415200" cy="3654720"/>
        </p:xfrm>
        <a:graphic>
          <a:graphicData uri="http://schemas.openxmlformats.org/drawingml/2006/table">
            <a:tbl>
              <a:tblPr/>
              <a:tblGrid>
                <a:gridCol w="2138400"/>
                <a:gridCol w="2138400"/>
                <a:gridCol w="21384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04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job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hour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classmat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chor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dish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messes 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lunch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udd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uppl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urals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–s, -es, -i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2085840"/>
            <a:ext cx="77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The tunes had many notes.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unes</a:t>
            </a: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 had many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tes</a:t>
            </a: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I will read the stories to the baby.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I will read the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tories</a:t>
            </a: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 to the baby.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We did not switch lunches.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We did not switch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unches</a:t>
            </a: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The babies like hearing the same story.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abies</a:t>
            </a: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 like hearing the same story.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uthor’s Purpos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2085480"/>
            <a:ext cx="7786800" cy="461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An author has a reason for writing.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He or she might write to explain or inform, entertain, express feelings, or convince the reader to think or act a certain way.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As you read, ask yourself what the story is about and why the author might have written it.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Notice if the story is funny, serious, or sad.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Big Question: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hen should we work together?  When should we work alone?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438280" y="2666880"/>
            <a:ext cx="633096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f0e30"/>
                </a:solidFill>
                <a:uFillTx/>
                <a:latin typeface="Arial"/>
                <a:hlinkClick r:id="rId1" action="ppaction://hlinksldjump"/>
              </a:rPr>
              <a:t>Monday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f0e30"/>
                </a:solidFill>
                <a:uFillTx/>
                <a:latin typeface="Arial"/>
                <a:hlinkClick r:id="rId2" action="ppaction://hlinksldjump"/>
              </a:rPr>
              <a:t>Tuesday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f0e30"/>
                </a:solidFill>
                <a:uFillTx/>
                <a:latin typeface="Arial"/>
                <a:hlinkClick r:id="rId3" action="ppaction://hlinksldjump"/>
              </a:rPr>
              <a:t>Wednesday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f0e30"/>
                </a:solidFill>
                <a:uFillTx/>
                <a:latin typeface="Arial"/>
                <a:hlinkClick r:id="rId4" action="ppaction://hlinksldjump"/>
              </a:rPr>
              <a:t>Thursday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f0e30"/>
                </a:solidFill>
                <a:uFillTx/>
                <a:latin typeface="Arial"/>
                <a:hlinkClick r:id="rId5" action="ppaction://hlinksldjump"/>
              </a:rPr>
              <a:t>Friday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ory Structur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Story structure is how the story is put together.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It includes setting, plot, and characters.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Each piece of the story is needed to make it whole.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Paying attention to story structure as you read helps you to understand the story.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As you read, notice where and when the story takes place.  Notice who the characters are and how they act. Notice what is happening.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remen Town Musician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2895480" y="2133720"/>
          <a:ext cx="3470400" cy="4371840"/>
        </p:xfrm>
        <a:graphic>
          <a:graphicData uri="http://schemas.openxmlformats.org/drawingml/2006/table">
            <a:tbl>
              <a:tblPr/>
              <a:tblGrid>
                <a:gridCol w="3470400"/>
              </a:tblGrid>
              <a:tr h="437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people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ign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ought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cared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probably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hall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pleasant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igh-Frequency Word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905120" y="2085840"/>
            <a:ext cx="2597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people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friend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sign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love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shall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full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bought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952520" y="2085840"/>
            <a:ext cx="3519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stood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probably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door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pleasant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never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scared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sure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Vocabulary Word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2085840"/>
            <a:ext cx="77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mill – a building where grain is crushed into flour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musician – someone who plays music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excitement – a feeling of being very happy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robbers – people who steal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monsters – scary creatures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Grist Mill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81" name="Picture 13" descr="Mill_StoneLogo500H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29400" y="2286000"/>
            <a:ext cx="1828800" cy="17017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5" descr="brewster_grist_mill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581280" y="2209680"/>
            <a:ext cx="2362320" cy="17766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7" descr="MillHopper-74045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8080" y="4267080"/>
            <a:ext cx="1779840" cy="23623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grinding_mill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618240" y="4267080"/>
            <a:ext cx="1849320" cy="221004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1" descr="w-mabry%2520mill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33520" y="2209680"/>
            <a:ext cx="2438280" cy="18338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9" descr="mill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809880" y="4267080"/>
            <a:ext cx="191160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80880" y="213372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pic>
        <p:nvPicPr>
          <p:cNvPr id="289" name="Picture 5" descr="Musician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2133720"/>
            <a:ext cx="1576440" cy="243828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9" descr="musician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460600" y="2133720"/>
            <a:ext cx="1711440" cy="24382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1" descr="musicia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80880" y="4695840"/>
            <a:ext cx="2590920" cy="19429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3" descr="gen-musician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811920" y="2133720"/>
            <a:ext cx="1951200" cy="243828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5" descr="fourfingeredPianist"/>
          <p:cNvPicPr/>
          <p:nvPr/>
        </p:nvPicPr>
        <p:blipFill>
          <a:blip r:embed="rId9"/>
          <a:stretch/>
        </p:blipFill>
        <p:spPr>
          <a:xfrm>
            <a:off x="4724280" y="2133720"/>
            <a:ext cx="1690920" cy="24382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7" descr="drummer"/>
          <p:cNvPicPr/>
          <p:nvPr/>
        </p:nvPicPr>
        <p:blipFill>
          <a:blip r:embed="rId10"/>
          <a:stretch/>
        </p:blipFill>
        <p:spPr>
          <a:xfrm>
            <a:off x="3581280" y="4724280"/>
            <a:ext cx="2514600" cy="193356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9" descr="DW_FON_06Trinidad01_md"/>
          <p:cNvPicPr/>
          <p:nvPr/>
        </p:nvPicPr>
        <p:blipFill>
          <a:blip r:embed="rId11"/>
          <a:stretch/>
        </p:blipFill>
        <p:spPr>
          <a:xfrm>
            <a:off x="6858000" y="4724280"/>
            <a:ext cx="18669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Vocabulary Word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2085840"/>
            <a:ext cx="77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Donkey was tired of working at the ___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Donkey was tired of working at the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ill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One day three furry ____ scared Donkey and stole all the grain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One day three furry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onsters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scared Donkey and stole all the grain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Vocabulary Word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085840"/>
            <a:ext cx="77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Oh, no!  Those ___ took everything!” Donkey cried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Oh, no!  Those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obbers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took everything!” Donkey cried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Donkey was surprised when his owner danced with ____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Donkey was surprised when his owner danced with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xcitement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Vocabulary Word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2085840"/>
            <a:ext cx="77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Now we don’t have to work, and we can become ____!” said Donkey’s owner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Now we don’t have to work, and we can become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usicians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!” said Donkey’s owner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aily Fix-I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085840"/>
            <a:ext cx="77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603360" indent="-603360">
              <a:spcBef>
                <a:spcPts val="10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ceff"/>
                </a:solidFill>
                <a:latin typeface="Arial"/>
              </a:rPr>
              <a:t>he at good food on the fam.</a:t>
            </a:r>
            <a:endParaRPr b="0" lang="en-US" sz="4000" spc="-1" strike="noStrike">
              <a:solidFill>
                <a:srgbClr val="c1ceff"/>
              </a:solidFill>
              <a:latin typeface="Arial"/>
            </a:endParaRPr>
          </a:p>
          <a:p>
            <a:pPr marL="603360" indent="-603360">
              <a:spcBef>
                <a:spcPts val="10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f9100"/>
                </a:solidFill>
                <a:latin typeface="Arial"/>
              </a:rPr>
              <a:t>He ate good food on the farm.</a:t>
            </a:r>
            <a:endParaRPr b="0" lang="en-US" sz="4000" spc="-1" strike="noStrike">
              <a:solidFill>
                <a:srgbClr val="c1ceff"/>
              </a:solidFill>
              <a:latin typeface="Arial"/>
            </a:endParaRPr>
          </a:p>
          <a:p>
            <a:pPr marL="603360" indent="-603360">
              <a:spcBef>
                <a:spcPts val="1001"/>
              </a:spcBef>
              <a:buClr>
                <a:srgbClr val="cf0e3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ceff"/>
                </a:solidFill>
                <a:latin typeface="Arial"/>
              </a:rPr>
              <a:t>but he was’nt at the farm now</a:t>
            </a:r>
            <a:endParaRPr b="0" lang="en-US" sz="4000" spc="-1" strike="noStrike">
              <a:solidFill>
                <a:srgbClr val="c1ceff"/>
              </a:solidFill>
              <a:latin typeface="Arial"/>
            </a:endParaRPr>
          </a:p>
          <a:p>
            <a:pPr marL="603360" indent="-603360">
              <a:spcBef>
                <a:spcPts val="1001"/>
              </a:spcBef>
              <a:buClr>
                <a:srgbClr val="cf0e3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f9100"/>
                </a:solidFill>
                <a:latin typeface="Arial"/>
              </a:rPr>
              <a:t>But he wasn’t at the farm now.</a:t>
            </a:r>
            <a:endParaRPr b="0" lang="en-US" sz="40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remen Town Musicians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onday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600200" y="2209680"/>
          <a:ext cx="6095880" cy="36640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6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f0e30"/>
                          </a:solidFill>
                          <a:latin typeface="Arial"/>
                        </a:rPr>
                        <a:t>Morning Warm-Up</a:t>
                      </a:r>
                      <a:endParaRPr b="0" lang="en-US" sz="36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ometimes we need help when we’re working toward a goal or trying to solve a problem.  When should we work together?  When should we work alone?</a:t>
                      </a:r>
                      <a:endParaRPr b="0" lang="en-US" sz="32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lural Nouns That Change Spelling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A plural noun names more than one person, place, or thing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Some nouns change to a different word when they are made plural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wolf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wolves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man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men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remen Town Musicians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uesday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Journal Topic</a:t>
                      </a:r>
                      <a:endParaRPr b="0" lang="en-US" sz="36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  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Write about a time when you worked closely with another person.</a:t>
                      </a: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08" name="Picture 19" descr="1558586946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229600" y="5791320"/>
            <a:ext cx="493560" cy="68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remen Town Musicians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ednesday 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1600200" y="259092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Morning Warm-Up</a:t>
                      </a:r>
                      <a:r>
                        <a:rPr b="1" lang="en-US" sz="32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Today we will read about Bat.  Bat is alone and sad.  What might make Bat feel better?</a:t>
                      </a:r>
                      <a:endParaRPr b="0" lang="en-US" sz="32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remen Town Musicians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ednesday 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1600200" y="259092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Morning Warm-Up</a:t>
                      </a:r>
                      <a:r>
                        <a:rPr b="1" lang="en-US" sz="32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Today we will read about Bat.  Bat is alone and </a:t>
                      </a:r>
                      <a:r>
                        <a:rPr b="1" i="1" lang="en-US" sz="3200" spc="-1" strike="noStrike">
                          <a:solidFill>
                            <a:srgbClr val="cf0e30"/>
                          </a:solidFill>
                          <a:latin typeface="Arial"/>
                        </a:rPr>
                        <a:t>sad</a:t>
                      </a:r>
                      <a:r>
                        <a:rPr b="1" i="1" lang="en-US" sz="32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.  What might make Bat feel better?</a:t>
                      </a:r>
                      <a:endParaRPr b="0" lang="en-US" sz="32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01800" y="708120"/>
            <a:ext cx="7354800" cy="109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oday we will learn about: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523520" y="2285640"/>
            <a:ext cx="656604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f0e3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new amazing words,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f0e3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r-controlled </a:t>
            </a:r>
            <a:r>
              <a:rPr b="1" i="1" lang="en-US" sz="3200" spc="-1" strike="noStrike">
                <a:solidFill>
                  <a:srgbClr val="c1ceff"/>
                </a:solidFill>
                <a:latin typeface="Arial"/>
              </a:rPr>
              <a:t>er, ir, ur,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f0e3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plurals,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f0e3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high-frequency words,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f0e3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homophones, and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f0e3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plural nouns that change spelling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01800" y="876240"/>
            <a:ext cx="7354800" cy="97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Bremen Town Musicia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1828800" y="3809880"/>
          <a:ext cx="6095880" cy="10670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amiliar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a – mil – i – ar    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Something or someon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amiliar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to you is well known or close to you from repeated contact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It was nice to be home in a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amiliar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place after traveling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By the end of the year, I will b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amiliar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with my entire class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nsis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n – sist     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When you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nsist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, you are making a demand or taking a stand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Mom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nsisted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that I finish my homework before watching TV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Your best friend will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nsist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that you come to her birthday party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-Controlled </a:t>
            </a: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er, ir, ur:</a:t>
            </a:r>
            <a:br>
              <a:rPr sz="4000"/>
            </a:b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firm, burn, herself, perch, curl, birth, clerk, stir,</a:t>
            </a:r>
            <a:br>
              <a:rPr sz="2000"/>
            </a:b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 purse, modern, survive, birdbat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1523880" y="2209680"/>
          <a:ext cx="6110280" cy="3756240"/>
        </p:xfrm>
        <a:graphic>
          <a:graphicData uri="http://schemas.openxmlformats.org/drawingml/2006/table">
            <a:tbl>
              <a:tblPr/>
              <a:tblGrid>
                <a:gridCol w="2036880"/>
                <a:gridCol w="2036880"/>
                <a:gridCol w="203652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e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i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u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14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-Controlled </a:t>
            </a: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er, ir, ur:</a:t>
            </a:r>
            <a:br>
              <a:rPr sz="4000"/>
            </a:b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firm, burn, herself, perch, curl, birth, clerk, stir,</a:t>
            </a:r>
            <a:br>
              <a:rPr sz="2000"/>
            </a:b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 purse, modern, survive, birdbat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1523880" y="2209680"/>
          <a:ext cx="6110280" cy="3756240"/>
        </p:xfrm>
        <a:graphic>
          <a:graphicData uri="http://schemas.openxmlformats.org/drawingml/2006/table">
            <a:tbl>
              <a:tblPr/>
              <a:tblGrid>
                <a:gridCol w="2036880"/>
                <a:gridCol w="2036880"/>
                <a:gridCol w="203652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e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i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u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14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firm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remen Town Musicians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onday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600200" y="2209680"/>
          <a:ext cx="6095880" cy="36640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6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f0e30"/>
                          </a:solidFill>
                          <a:latin typeface="Arial"/>
                        </a:rPr>
                        <a:t>Morning Warm-Up</a:t>
                      </a:r>
                      <a:endParaRPr b="0" lang="en-US" sz="36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ometimes we need help when we’re working </a:t>
                      </a:r>
                      <a:r>
                        <a:rPr b="1" i="1" lang="en-US" sz="32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toward</a:t>
                      </a:r>
                      <a:r>
                        <a:rPr b="1" i="1" lang="en-US" sz="32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a goal or trying to solve a problem.  When should we work together?  When should we work alone?</a:t>
                      </a:r>
                      <a:endParaRPr b="0" lang="en-US" sz="32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-Controlled </a:t>
            </a: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er, ir, ur:</a:t>
            </a:r>
            <a:br>
              <a:rPr sz="4000"/>
            </a:b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firm, burn, herself, perch, curl, birth, clerk, stir,</a:t>
            </a:r>
            <a:br>
              <a:rPr sz="2000"/>
            </a:b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 purse, modern, survive, birdbat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523880" y="2209680"/>
          <a:ext cx="6110280" cy="3756240"/>
        </p:xfrm>
        <a:graphic>
          <a:graphicData uri="http://schemas.openxmlformats.org/drawingml/2006/table">
            <a:tbl>
              <a:tblPr/>
              <a:tblGrid>
                <a:gridCol w="2036880"/>
                <a:gridCol w="2036880"/>
                <a:gridCol w="203652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e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i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u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14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firm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urn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-Controlled </a:t>
            </a: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er, ir, ur:</a:t>
            </a:r>
            <a:br>
              <a:rPr sz="4000"/>
            </a:b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firm, burn, herself, perch, curl, birth, clerk, stir,</a:t>
            </a:r>
            <a:br>
              <a:rPr sz="2000"/>
            </a:b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 purse, modern, survive, birdbat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1523880" y="2209680"/>
          <a:ext cx="6110280" cy="3756240"/>
        </p:xfrm>
        <a:graphic>
          <a:graphicData uri="http://schemas.openxmlformats.org/drawingml/2006/table">
            <a:tbl>
              <a:tblPr/>
              <a:tblGrid>
                <a:gridCol w="2036880"/>
                <a:gridCol w="2036880"/>
                <a:gridCol w="203652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e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i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u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14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herself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firm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urn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-Controlled </a:t>
            </a: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er, ir, ur:</a:t>
            </a:r>
            <a:br>
              <a:rPr sz="4000"/>
            </a:b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firm, burn, herself, perch, curl, birth, clerk, stir,</a:t>
            </a:r>
            <a:br>
              <a:rPr sz="2000"/>
            </a:b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 purse, modern, survive, birdbat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1523880" y="2209680"/>
          <a:ext cx="6110280" cy="3756240"/>
        </p:xfrm>
        <a:graphic>
          <a:graphicData uri="http://schemas.openxmlformats.org/drawingml/2006/table">
            <a:tbl>
              <a:tblPr/>
              <a:tblGrid>
                <a:gridCol w="2036880"/>
                <a:gridCol w="2036880"/>
                <a:gridCol w="203652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e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i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u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14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herself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perch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firm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urn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-Controlled </a:t>
            </a: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er, ir, ur:</a:t>
            </a:r>
            <a:br>
              <a:rPr sz="4000"/>
            </a:b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firm, burn, herself, perch, curl, birth, clerk, stir,</a:t>
            </a:r>
            <a:br>
              <a:rPr sz="2000"/>
            </a:b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 purse, modern, survive, birdbat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1523880" y="2209680"/>
          <a:ext cx="6110280" cy="3756240"/>
        </p:xfrm>
        <a:graphic>
          <a:graphicData uri="http://schemas.openxmlformats.org/drawingml/2006/table">
            <a:tbl>
              <a:tblPr/>
              <a:tblGrid>
                <a:gridCol w="2036880"/>
                <a:gridCol w="2036880"/>
                <a:gridCol w="203652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e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i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u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14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herself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perch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firm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urn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curl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-Controlled </a:t>
            </a: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er, ir, ur:</a:t>
            </a:r>
            <a:br>
              <a:rPr sz="4000"/>
            </a:b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firm, burn, herself, perch, curl, birth, clerk, stir,</a:t>
            </a:r>
            <a:br>
              <a:rPr sz="2000"/>
            </a:b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 purse, modern, survive, birdbat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1523880" y="2209680"/>
          <a:ext cx="6110280" cy="3756240"/>
        </p:xfrm>
        <a:graphic>
          <a:graphicData uri="http://schemas.openxmlformats.org/drawingml/2006/table">
            <a:tbl>
              <a:tblPr/>
              <a:tblGrid>
                <a:gridCol w="2036880"/>
                <a:gridCol w="2036880"/>
                <a:gridCol w="203652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e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i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u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14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herself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perch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firm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irth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urn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curl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-Controlled </a:t>
            </a: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er, ir, ur:</a:t>
            </a:r>
            <a:br>
              <a:rPr sz="4000"/>
            </a:b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firm, burn, herself, perch, curl, birth, clerk, stir,</a:t>
            </a:r>
            <a:br>
              <a:rPr sz="2000"/>
            </a:b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 purse, modern, survive, birdbat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1523880" y="2209680"/>
          <a:ext cx="6110280" cy="3756240"/>
        </p:xfrm>
        <a:graphic>
          <a:graphicData uri="http://schemas.openxmlformats.org/drawingml/2006/table">
            <a:tbl>
              <a:tblPr/>
              <a:tblGrid>
                <a:gridCol w="2036880"/>
                <a:gridCol w="2036880"/>
                <a:gridCol w="203652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e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i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u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14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herself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perch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clerk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firm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irth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urn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curl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-Controlled </a:t>
            </a: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er, ir, ur:</a:t>
            </a:r>
            <a:br>
              <a:rPr sz="4000"/>
            </a:b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firm, burn, herself, perch, curl, birth, clerk, stir,</a:t>
            </a:r>
            <a:br>
              <a:rPr sz="2000"/>
            </a:b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 purse, modern, survive, birdbat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1523880" y="2209680"/>
          <a:ext cx="6110280" cy="3756240"/>
        </p:xfrm>
        <a:graphic>
          <a:graphicData uri="http://schemas.openxmlformats.org/drawingml/2006/table">
            <a:tbl>
              <a:tblPr/>
              <a:tblGrid>
                <a:gridCol w="2036880"/>
                <a:gridCol w="2036880"/>
                <a:gridCol w="203652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e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i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u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14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herself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perch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clerk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firm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irth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ti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urn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curl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-Controlled </a:t>
            </a: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er, ir, ur:</a:t>
            </a:r>
            <a:br>
              <a:rPr sz="4000"/>
            </a:b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firm, burn, herself, perch, curl, birth, clerk, stir,</a:t>
            </a:r>
            <a:br>
              <a:rPr sz="2000"/>
            </a:b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 purse, modern, survive, birdbat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1523880" y="2209680"/>
          <a:ext cx="6110280" cy="3756240"/>
        </p:xfrm>
        <a:graphic>
          <a:graphicData uri="http://schemas.openxmlformats.org/drawingml/2006/table">
            <a:tbl>
              <a:tblPr/>
              <a:tblGrid>
                <a:gridCol w="2036880"/>
                <a:gridCol w="2036880"/>
                <a:gridCol w="203652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e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i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u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14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herself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perch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clerk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firm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irth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ti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urn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curl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purse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-Controlled </a:t>
            </a: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er, ir, ur:</a:t>
            </a:r>
            <a:br>
              <a:rPr sz="4000"/>
            </a:b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firm, burn, herself, perch, curl, birth, clerk, stir,</a:t>
            </a:r>
            <a:br>
              <a:rPr sz="2000"/>
            </a:b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 purse, modern, survive, birdbat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1523880" y="2209680"/>
          <a:ext cx="6110280" cy="3756240"/>
        </p:xfrm>
        <a:graphic>
          <a:graphicData uri="http://schemas.openxmlformats.org/drawingml/2006/table">
            <a:tbl>
              <a:tblPr/>
              <a:tblGrid>
                <a:gridCol w="2036880"/>
                <a:gridCol w="2036880"/>
                <a:gridCol w="203652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e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i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u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14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herself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perch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clerk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modern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firm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irth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ti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urn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curl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purse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-Controlled </a:t>
            </a: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er, ir, ur:</a:t>
            </a:r>
            <a:br>
              <a:rPr sz="4000"/>
            </a:b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firm, burn, herself, perch, curl, birth, clerk, stir,</a:t>
            </a:r>
            <a:br>
              <a:rPr sz="2000"/>
            </a:b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 purse, modern, survive, birdbat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1523880" y="2209680"/>
          <a:ext cx="6110280" cy="3756240"/>
        </p:xfrm>
        <a:graphic>
          <a:graphicData uri="http://schemas.openxmlformats.org/drawingml/2006/table">
            <a:tbl>
              <a:tblPr/>
              <a:tblGrid>
                <a:gridCol w="2036880"/>
                <a:gridCol w="2036880"/>
                <a:gridCol w="203652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e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i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u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14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herself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perch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clerk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modern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firm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irth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ti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urn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curl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purse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urvive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01800" y="708120"/>
            <a:ext cx="7354800" cy="109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oday we will learn about: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23520" y="2285640"/>
            <a:ext cx="656604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cf0e3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c1ceff"/>
                </a:solidFill>
                <a:latin typeface="Arial"/>
              </a:rPr>
              <a:t>new amazing words,</a:t>
            </a:r>
            <a:endParaRPr b="0" lang="en-US" sz="36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f0e3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c1ceff"/>
                </a:solidFill>
                <a:latin typeface="Arial"/>
              </a:rPr>
              <a:t>plurals,</a:t>
            </a:r>
            <a:endParaRPr b="0" lang="en-US" sz="36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f0e3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c1ceff"/>
                </a:solidFill>
                <a:latin typeface="Arial"/>
              </a:rPr>
              <a:t>author’s purpose,</a:t>
            </a:r>
            <a:endParaRPr b="0" lang="en-US" sz="36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f0e3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c1ceff"/>
                </a:solidFill>
                <a:latin typeface="Arial"/>
              </a:rPr>
              <a:t>plural nouns that change spelling</a:t>
            </a:r>
            <a:endParaRPr b="0" lang="en-US" sz="3600" spc="-1" strike="noStrike">
              <a:solidFill>
                <a:srgbClr val="c1ce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-Controlled </a:t>
            </a: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er, ir, ur:</a:t>
            </a:r>
            <a:br>
              <a:rPr sz="4000"/>
            </a:b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firm, burn, herself, perch, curl, birth, clerk, stir,</a:t>
            </a:r>
            <a:br>
              <a:rPr sz="2000"/>
            </a:b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 purse, modern, survive, birdbat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1523880" y="2209680"/>
          <a:ext cx="6110280" cy="3756240"/>
        </p:xfrm>
        <a:graphic>
          <a:graphicData uri="http://schemas.openxmlformats.org/drawingml/2006/table">
            <a:tbl>
              <a:tblPr/>
              <a:tblGrid>
                <a:gridCol w="2036880"/>
                <a:gridCol w="2036880"/>
                <a:gridCol w="203652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e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i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u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14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herself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perch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clerk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modern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firm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irth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ti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irdbath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urn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curl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purse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urvive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remen Town Musician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2895480" y="2133720"/>
          <a:ext cx="3470400" cy="4371840"/>
        </p:xfrm>
        <a:graphic>
          <a:graphicData uri="http://schemas.openxmlformats.org/drawingml/2006/table">
            <a:tbl>
              <a:tblPr/>
              <a:tblGrid>
                <a:gridCol w="3470400"/>
              </a:tblGrid>
              <a:tr h="437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people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ign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ought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cared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probably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hall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pleasant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igh-Frequency Word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2085840"/>
            <a:ext cx="77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Which is a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leasant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dream—a dream about going on a picnic or a dream about a monster?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Which happens when you are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cared—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you smile or your heart beats quickly?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Which will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obably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happen—you will see a unicorn or you will see a dog?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igh-Frequency Word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868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Which might be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ought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at a store every week—a dance or a loaf of bread?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Which will most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eople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choose to drink—a cup of oil or a cup of water?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Which might you see on a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gn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— “35 miles per hour” or pictures of snowflakes?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Which is something you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hall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do later today—homework or grade tests?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remen Town Musician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1219320" y="2133720"/>
          <a:ext cx="3470040" cy="4114800"/>
        </p:xfrm>
        <a:graphic>
          <a:graphicData uri="http://schemas.openxmlformats.org/drawingml/2006/table">
            <a:tbl>
              <a:tblPr/>
              <a:tblGrid>
                <a:gridCol w="347004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note            switch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notes          switche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lunch          baby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lunches      babie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tory           </a:t>
                      </a:r>
                      <a:r>
                        <a:rPr b="0" lang="en-US" sz="24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crumb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tories        </a:t>
                      </a:r>
                      <a:r>
                        <a:rPr b="0" lang="en-US" sz="24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supplie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tune            </a:t>
                      </a:r>
                      <a:r>
                        <a:rPr b="0" lang="en-US" sz="24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centurie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tune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55" name=""/>
          <p:cNvGraphicFramePr/>
          <p:nvPr/>
        </p:nvGraphicFramePr>
        <p:xfrm>
          <a:off x="4876920" y="2133720"/>
          <a:ext cx="2819160" cy="4190760"/>
        </p:xfrm>
        <a:graphic>
          <a:graphicData uri="http://schemas.openxmlformats.org/drawingml/2006/table">
            <a:tbl>
              <a:tblPr/>
              <a:tblGrid>
                <a:gridCol w="2819160"/>
              </a:tblGrid>
              <a:tr h="419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Word Wall Word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crash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kate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aw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eating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pick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omophon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2085840"/>
            <a:ext cx="77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omophone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is a word that sounds the same as another word, but has a different meaning and is spelled differently. 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The dog felt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eak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The dog walked for a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eek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omophon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2085840"/>
            <a:ext cx="77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know – no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be – bee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here – hear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there – their – they’re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ate  - eight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aunt – ant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see - sea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aily Fix-I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2085840"/>
            <a:ext cx="77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560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560520" indent="-560520">
              <a:spcBef>
                <a:spcPts val="1199"/>
              </a:spcBef>
              <a:buClr>
                <a:srgbClr val="cf0e3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1ceff"/>
                </a:solidFill>
                <a:latin typeface="Arial"/>
              </a:rPr>
              <a:t>he red a dog storie</a:t>
            </a:r>
            <a:endParaRPr b="0" lang="en-US" sz="4800" spc="-1" strike="noStrike">
              <a:solidFill>
                <a:srgbClr val="c1ceff"/>
              </a:solidFill>
              <a:latin typeface="Arial"/>
            </a:endParaRPr>
          </a:p>
          <a:p>
            <a:pPr marL="560520" indent="-560520">
              <a:spcBef>
                <a:spcPts val="1199"/>
              </a:spcBef>
              <a:buClr>
                <a:srgbClr val="cf0e3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9100"/>
                </a:solidFill>
                <a:latin typeface="Arial"/>
              </a:rPr>
              <a:t>He read a dog story.</a:t>
            </a:r>
            <a:endParaRPr b="0" lang="en-US" sz="4800" spc="-1" strike="noStrike">
              <a:solidFill>
                <a:srgbClr val="c1ceff"/>
              </a:solidFill>
              <a:latin typeface="Arial"/>
            </a:endParaRPr>
          </a:p>
          <a:p>
            <a:pPr marL="560520" indent="-560520">
              <a:spcBef>
                <a:spcPts val="1199"/>
              </a:spcBef>
              <a:buClr>
                <a:srgbClr val="cf0e3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1ceff"/>
                </a:solidFill>
                <a:latin typeface="Arial"/>
              </a:rPr>
              <a:t>he new other storys too</a:t>
            </a:r>
            <a:endParaRPr b="0" lang="en-US" sz="4800" spc="-1" strike="noStrike">
              <a:solidFill>
                <a:srgbClr val="c1ceff"/>
              </a:solidFill>
              <a:latin typeface="Arial"/>
            </a:endParaRPr>
          </a:p>
          <a:p>
            <a:pPr marL="560520" indent="-560520">
              <a:spcBef>
                <a:spcPts val="1199"/>
              </a:spcBef>
              <a:buClr>
                <a:srgbClr val="cf0e3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9100"/>
                </a:solidFill>
                <a:latin typeface="Arial"/>
              </a:rPr>
              <a:t>He knew other stories too.</a:t>
            </a:r>
            <a:endParaRPr b="0" lang="en-US" sz="4800" spc="-1" strike="noStrike">
              <a:solidFill>
                <a:srgbClr val="c1ceff"/>
              </a:solidFill>
              <a:latin typeface="Arial"/>
            </a:endParaRPr>
          </a:p>
          <a:p>
            <a:pPr marL="56052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1ceff"/>
              </a:solidFill>
              <a:latin typeface="Arial"/>
            </a:endParaRPr>
          </a:p>
          <a:p>
            <a:pPr marL="56052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eff"/>
              </a:solidFill>
              <a:latin typeface="Arial"/>
            </a:endParaRPr>
          </a:p>
          <a:p>
            <a:pPr marL="56052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eff"/>
              </a:solidFill>
              <a:latin typeface="Arial"/>
            </a:endParaRPr>
          </a:p>
          <a:p>
            <a:pPr marL="56052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lural Nouns That Change Spelling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2085840"/>
            <a:ext cx="77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f0e3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A singular noun names one person, place, animal, or thing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f0e3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A plural noun names more than one person, place, animal, or thing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f0e3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Some nouns change spelling to name more than one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lural Nouns That Change Spelling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86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ceff"/>
                </a:solidFill>
                <a:latin typeface="Arial"/>
              </a:rPr>
              <a:t>The </a:t>
            </a:r>
            <a:r>
              <a:rPr b="1" lang="en-US" sz="3600" spc="-1" strike="noStrike" u="sng">
                <a:solidFill>
                  <a:srgbClr val="c1ceff"/>
                </a:solidFill>
                <a:uFillTx/>
                <a:latin typeface="Arial"/>
              </a:rPr>
              <a:t>mouse</a:t>
            </a:r>
            <a:r>
              <a:rPr b="1" lang="en-US" sz="3600" spc="-1" strike="noStrike">
                <a:solidFill>
                  <a:srgbClr val="c1ceff"/>
                </a:solidFill>
                <a:latin typeface="Arial"/>
              </a:rPr>
              <a:t> ate the cheese.</a:t>
            </a:r>
            <a:endParaRPr b="0" lang="en-US" sz="36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ceff"/>
                </a:solidFill>
                <a:latin typeface="Arial"/>
              </a:rPr>
              <a:t>The </a:t>
            </a:r>
            <a:r>
              <a:rPr b="1" lang="en-US" sz="3600" spc="-1" strike="noStrike" u="sng">
                <a:solidFill>
                  <a:srgbClr val="c1ceff"/>
                </a:solidFill>
                <a:uFillTx/>
                <a:latin typeface="Arial"/>
              </a:rPr>
              <a:t>mice</a:t>
            </a:r>
            <a:r>
              <a:rPr b="1" lang="en-US" sz="3600" spc="-1" strike="noStrike">
                <a:solidFill>
                  <a:srgbClr val="c1ceff"/>
                </a:solidFill>
                <a:latin typeface="Arial"/>
              </a:rPr>
              <a:t> ate the cheese.</a:t>
            </a:r>
            <a:endParaRPr b="0" lang="en-US" sz="36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ceff"/>
                </a:solidFill>
                <a:latin typeface="Arial"/>
              </a:rPr>
              <a:t>The </a:t>
            </a:r>
            <a:r>
              <a:rPr b="1" lang="en-US" sz="3600" spc="-1" strike="noStrike" u="sng">
                <a:solidFill>
                  <a:srgbClr val="c1ceff"/>
                </a:solidFill>
                <a:uFillTx/>
                <a:latin typeface="Arial"/>
              </a:rPr>
              <a:t>woman</a:t>
            </a:r>
            <a:r>
              <a:rPr b="1" lang="en-US" sz="3600" spc="-1" strike="noStrike">
                <a:solidFill>
                  <a:srgbClr val="c1ceff"/>
                </a:solidFill>
                <a:latin typeface="Arial"/>
              </a:rPr>
              <a:t> smiled.</a:t>
            </a:r>
            <a:endParaRPr b="0" lang="en-US" sz="36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ceff"/>
                </a:solidFill>
                <a:latin typeface="Arial"/>
              </a:rPr>
              <a:t>The </a:t>
            </a:r>
            <a:r>
              <a:rPr b="1" lang="en-US" sz="3600" spc="-1" strike="noStrike" u="sng">
                <a:solidFill>
                  <a:srgbClr val="c1ceff"/>
                </a:solidFill>
                <a:uFillTx/>
                <a:latin typeface="Arial"/>
              </a:rPr>
              <a:t>women</a:t>
            </a:r>
            <a:r>
              <a:rPr b="1" lang="en-US" sz="3600" spc="-1" strike="noStrike">
                <a:solidFill>
                  <a:srgbClr val="c1ceff"/>
                </a:solidFill>
                <a:latin typeface="Arial"/>
              </a:rPr>
              <a:t> smiled.</a:t>
            </a:r>
            <a:endParaRPr b="0" lang="en-US" sz="36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ceff"/>
                </a:solidFill>
                <a:latin typeface="Arial"/>
              </a:rPr>
              <a:t>The </a:t>
            </a:r>
            <a:r>
              <a:rPr b="1" lang="en-US" sz="3600" spc="-1" strike="noStrike" u="sng">
                <a:solidFill>
                  <a:srgbClr val="c1ceff"/>
                </a:solidFill>
                <a:uFillTx/>
                <a:latin typeface="Arial"/>
              </a:rPr>
              <a:t>child</a:t>
            </a:r>
            <a:r>
              <a:rPr b="1" lang="en-US" sz="3600" spc="-1" strike="noStrike">
                <a:solidFill>
                  <a:srgbClr val="c1ceff"/>
                </a:solidFill>
                <a:latin typeface="Arial"/>
              </a:rPr>
              <a:t> played on the swings.</a:t>
            </a:r>
            <a:endParaRPr b="0" lang="en-US" sz="36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ceff"/>
                </a:solidFill>
                <a:latin typeface="Arial"/>
              </a:rPr>
              <a:t>The </a:t>
            </a:r>
            <a:r>
              <a:rPr b="1" lang="en-US" sz="3600" spc="-1" strike="noStrike" u="sng">
                <a:solidFill>
                  <a:srgbClr val="c1ceff"/>
                </a:solidFill>
                <a:uFillTx/>
                <a:latin typeface="Arial"/>
              </a:rPr>
              <a:t>children</a:t>
            </a:r>
            <a:r>
              <a:rPr b="1" lang="en-US" sz="3600" spc="-1" strike="noStrike">
                <a:solidFill>
                  <a:srgbClr val="c1ceff"/>
                </a:solidFill>
                <a:latin typeface="Arial"/>
              </a:rPr>
              <a:t> played on the swings.</a:t>
            </a:r>
            <a:endParaRPr b="0" lang="en-US" sz="36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01:49:22Z</dcterms:created>
  <dc:creator>freida</dc:creator>
  <dc:description/>
  <dc:language>en-US</dc:language>
  <cp:lastModifiedBy>Laura McDow</cp:lastModifiedBy>
  <dcterms:modified xsi:type="dcterms:W3CDTF">2010-07-29T09:37:15Z</dcterms:modified>
  <cp:revision>22</cp:revision>
  <dc:subject/>
  <dc:title>Slide 1</dc:title>
</cp:coreProperties>
</file>